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D99-3A90-42EB-B6F7-FD654C69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547-975D-47F4-8B09-2DF8762D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6CD-8B63-4E94-9E93-52A0CD74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CCC-3E99-4F89-86B3-A43F1D84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D1A5-FF83-4A3A-88BB-54B3833E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A3C0-20FC-42F5-B8FC-748AB178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C3C9-D5A7-4CA9-8812-97485E9F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FA8A-F31B-4EBB-A4A3-8D242E60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FFA0-84F2-4B09-9FC7-473E0B76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9297-EF30-474B-9F67-A9388E5F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99E6-5CC0-47F5-AF6D-D7C748E1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5D4-2DE4-4C44-A85F-BD0A7070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BB1C-F8C4-4ECA-BA78-8D216E70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30BA-961F-4E66-A472-D0D2B75A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9C6C-5088-4AFA-A7E8-F58E54F2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EE97-EA41-4FFE-BBFE-78DB5357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640F-004F-45E7-B16D-5D7CFE79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1F7F3-63DF-4C94-8E66-BDAA91A2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5F50-72B0-40AB-9B34-1D6C270F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98E06-E03E-4BDB-A58E-25060FFB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EE84C-EE50-4061-B000-98D31C6F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45718-2E4F-445D-AB9B-C66C5966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44E-6799-4442-ADE3-A66D7E36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F5E02-B4BF-450B-9420-B18E8B3F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85999-1ACB-4F30-B04F-98F51AE0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26A24-CD95-432F-BBF2-1098CBE5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EDE78-6485-4686-9ED0-F2B8BF6D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82BCB-64E8-4E51-9849-2DE35394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DBA0D-8F21-4887-A5BC-4639CA71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D966B-EAD7-4256-AC37-D787B7BD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9074D-9318-4AE5-AC49-7B6D38AA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1DEED-F3AE-4395-9AEA-82DDE2D0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6B985-C2AF-46F6-9C68-2B338002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244-3656-4ADB-AE81-4E3E21EE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18044-4FAF-4AEA-AE8D-0A9E786F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1D719-A9E4-4964-9CBD-B2B9B32C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A4420-6EFC-4E80-8390-5BFF6957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F22DB-F4BF-4C52-BC45-41183A7E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EDD56-754B-44D8-8299-E909ADF7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39000-2B9D-421E-8B48-F9376AD4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B2284-CB53-4EBD-A512-55E4F24A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A1B73-FDA7-471B-A4D9-8E4F9125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242DB-62BC-49C3-85CE-8BEBC367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D6925-01D7-4E79-8926-79CEA857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35F-D9FE-4F7A-BCFC-FB62E471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9A406-5C07-4231-8A53-19EE08BC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A52F5-2C5F-4007-BDD9-54CA1905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D91F4-3264-49E5-B2C6-FD0D4F7A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FEEA8-6CCC-4E63-BA7A-B7DCA606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3AE4C-5AA4-4276-B9AF-EE7BE2F5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3C96F-D953-4828-B783-57B3AB98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28C8E-A107-47D5-A7A6-2C85C4F0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72049-1C13-4416-A9FA-B140AA14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21B2D-8237-47D0-AEF8-4D74E012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99199-7FC3-4326-B893-917B98C2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1C1-2C11-4179-B008-8E42B9C6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10232-57F2-4423-BE4D-F1F6E5D1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B9D-AEDC-4F2C-8098-C726C387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E82-C729-4DF3-BA5B-3789D9A1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949-73B7-4E41-9160-5C056746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6" descr="THL_PEARL_RGB_large.jpg"/>
          <p:cNvPicPr/>
          <p:nvPr/>
        </p:nvPicPr>
        <p:blipFill>
          <a:blip r:embed="rId2"/>
          <a:stretch/>
        </p:blipFill>
        <p:spPr>
          <a:xfrm>
            <a:off x="7848720" y="5457960"/>
            <a:ext cx="1066680" cy="10191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PPT_kansilogo.jpg"/>
          <p:cNvPicPr/>
          <p:nvPr/>
        </p:nvPicPr>
        <p:blipFill>
          <a:blip r:embed="rId3"/>
          <a:stretch/>
        </p:blipFill>
        <p:spPr>
          <a:xfrm>
            <a:off x="2260440" y="533520"/>
            <a:ext cx="4807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9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457200" y="65955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25.11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1600200" y="659556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Kirjoita esityksen nimi tähän headr/footer valikos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8153280" y="65955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3A1C-BC3D-4F69-B543-2217F792E92C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381400" y="230040"/>
            <a:ext cx="525780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9720" bIns="972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National Public Health Institute, Fi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5634-B3EA-4F9B-9994-F068917222F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39640" y="6308640"/>
            <a:ext cx="3616200" cy="107640"/>
            <a:chOff x="539640" y="6308640"/>
            <a:chExt cx="3616200" cy="107640"/>
          </a:xfrm>
        </p:grpSpPr>
        <p:sp>
          <p:nvSpPr>
            <p:cNvPr id="53" name=""/>
            <p:cNvSpPr/>
            <p:nvPr/>
          </p:nvSpPr>
          <p:spPr>
            <a:xfrm>
              <a:off x="2144520" y="6308640"/>
              <a:ext cx="2011320" cy="107640"/>
            </a:xfrm>
            <a:custGeom>
              <a:avLst/>
              <a:gdLst/>
              <a:ahLst/>
              <a:rect l="l" t="t" r="r" b="b"/>
              <a:pathLst>
                <a:path w="12677" h="681">
                  <a:moveTo>
                    <a:pt x="371" y="94"/>
                  </a:moveTo>
                  <a:lnTo>
                    <a:pt x="371" y="12"/>
                  </a:lnTo>
                  <a:lnTo>
                    <a:pt x="0" y="12"/>
                  </a:lnTo>
                  <a:lnTo>
                    <a:pt x="0" y="669"/>
                  </a:lnTo>
                  <a:lnTo>
                    <a:pt x="95" y="669"/>
                  </a:lnTo>
                  <a:lnTo>
                    <a:pt x="95" y="369"/>
                  </a:lnTo>
                  <a:lnTo>
                    <a:pt x="346" y="369"/>
                  </a:lnTo>
                  <a:lnTo>
                    <a:pt x="346" y="285"/>
                  </a:lnTo>
                  <a:lnTo>
                    <a:pt x="95" y="285"/>
                  </a:lnTo>
                  <a:lnTo>
                    <a:pt x="95" y="94"/>
                  </a:lnTo>
                  <a:lnTo>
                    <a:pt x="371" y="94"/>
                  </a:lnTo>
                  <a:close/>
                  <a:moveTo>
                    <a:pt x="1104" y="340"/>
                  </a:moveTo>
                  <a:lnTo>
                    <a:pt x="1103" y="304"/>
                  </a:lnTo>
                  <a:lnTo>
                    <a:pt x="1099" y="270"/>
                  </a:lnTo>
                  <a:lnTo>
                    <a:pt x="1092" y="238"/>
                  </a:lnTo>
                  <a:lnTo>
                    <a:pt x="1083" y="207"/>
                  </a:lnTo>
                  <a:lnTo>
                    <a:pt x="1072" y="177"/>
                  </a:lnTo>
                  <a:lnTo>
                    <a:pt x="1058" y="149"/>
                  </a:lnTo>
                  <a:lnTo>
                    <a:pt x="1042" y="123"/>
                  </a:lnTo>
                  <a:lnTo>
                    <a:pt x="1023" y="98"/>
                  </a:lnTo>
                  <a:lnTo>
                    <a:pt x="1000" y="76"/>
                  </a:lnTo>
                  <a:lnTo>
                    <a:pt x="976" y="55"/>
                  </a:lnTo>
                  <a:lnTo>
                    <a:pt x="950" y="39"/>
                  </a:lnTo>
                  <a:lnTo>
                    <a:pt x="921" y="25"/>
                  </a:lnTo>
                  <a:lnTo>
                    <a:pt x="891" y="13"/>
                  </a:lnTo>
                  <a:lnTo>
                    <a:pt x="859" y="6"/>
                  </a:lnTo>
                  <a:lnTo>
                    <a:pt x="824" y="1"/>
                  </a:lnTo>
                  <a:lnTo>
                    <a:pt x="788" y="0"/>
                  </a:lnTo>
                  <a:lnTo>
                    <a:pt x="751" y="1"/>
                  </a:lnTo>
                  <a:lnTo>
                    <a:pt x="717" y="6"/>
                  </a:lnTo>
                  <a:lnTo>
                    <a:pt x="685" y="13"/>
                  </a:lnTo>
                  <a:lnTo>
                    <a:pt x="654" y="25"/>
                  </a:lnTo>
                  <a:lnTo>
                    <a:pt x="626" y="39"/>
                  </a:lnTo>
                  <a:lnTo>
                    <a:pt x="600" y="55"/>
                  </a:lnTo>
                  <a:lnTo>
                    <a:pt x="575" y="76"/>
                  </a:lnTo>
                  <a:lnTo>
                    <a:pt x="552" y="98"/>
                  </a:lnTo>
                  <a:lnTo>
                    <a:pt x="543" y="111"/>
                  </a:lnTo>
                  <a:lnTo>
                    <a:pt x="534" y="123"/>
                  </a:lnTo>
                  <a:lnTo>
                    <a:pt x="518" y="149"/>
                  </a:lnTo>
                  <a:lnTo>
                    <a:pt x="504" y="177"/>
                  </a:lnTo>
                  <a:lnTo>
                    <a:pt x="493" y="206"/>
                  </a:lnTo>
                  <a:lnTo>
                    <a:pt x="485" y="238"/>
                  </a:lnTo>
                  <a:lnTo>
                    <a:pt x="479" y="270"/>
                  </a:lnTo>
                  <a:lnTo>
                    <a:pt x="475" y="304"/>
                  </a:lnTo>
                  <a:lnTo>
                    <a:pt x="473" y="340"/>
                  </a:lnTo>
                  <a:lnTo>
                    <a:pt x="475" y="377"/>
                  </a:lnTo>
                  <a:lnTo>
                    <a:pt x="479" y="412"/>
                  </a:lnTo>
                  <a:lnTo>
                    <a:pt x="485" y="444"/>
                  </a:lnTo>
                  <a:lnTo>
                    <a:pt x="493" y="475"/>
                  </a:lnTo>
                  <a:lnTo>
                    <a:pt x="504" y="504"/>
                  </a:lnTo>
                  <a:lnTo>
                    <a:pt x="519" y="531"/>
                  </a:lnTo>
                  <a:lnTo>
                    <a:pt x="534" y="557"/>
                  </a:lnTo>
                  <a:lnTo>
                    <a:pt x="552" y="581"/>
                  </a:lnTo>
                  <a:lnTo>
                    <a:pt x="575" y="604"/>
                  </a:lnTo>
                  <a:lnTo>
                    <a:pt x="587" y="615"/>
                  </a:lnTo>
                  <a:lnTo>
                    <a:pt x="600" y="625"/>
                  </a:lnTo>
                  <a:lnTo>
                    <a:pt x="626" y="642"/>
                  </a:lnTo>
                  <a:lnTo>
                    <a:pt x="654" y="656"/>
                  </a:lnTo>
                  <a:lnTo>
                    <a:pt x="685" y="668"/>
                  </a:lnTo>
                  <a:lnTo>
                    <a:pt x="717" y="675"/>
                  </a:lnTo>
                  <a:lnTo>
                    <a:pt x="751" y="680"/>
                  </a:lnTo>
                  <a:lnTo>
                    <a:pt x="788" y="681"/>
                  </a:lnTo>
                  <a:lnTo>
                    <a:pt x="824" y="680"/>
                  </a:lnTo>
                  <a:lnTo>
                    <a:pt x="859" y="675"/>
                  </a:lnTo>
                  <a:lnTo>
                    <a:pt x="891" y="668"/>
                  </a:lnTo>
                  <a:lnTo>
                    <a:pt x="921" y="656"/>
                  </a:lnTo>
                  <a:lnTo>
                    <a:pt x="950" y="642"/>
                  </a:lnTo>
                  <a:lnTo>
                    <a:pt x="976" y="625"/>
                  </a:lnTo>
                  <a:lnTo>
                    <a:pt x="1000" y="604"/>
                  </a:lnTo>
                  <a:lnTo>
                    <a:pt x="1023" y="581"/>
                  </a:lnTo>
                  <a:lnTo>
                    <a:pt x="1033" y="569"/>
                  </a:lnTo>
                  <a:lnTo>
                    <a:pt x="1042" y="557"/>
                  </a:lnTo>
                  <a:lnTo>
                    <a:pt x="1058" y="531"/>
                  </a:lnTo>
                  <a:lnTo>
                    <a:pt x="1072" y="504"/>
                  </a:lnTo>
                  <a:lnTo>
                    <a:pt x="1083" y="474"/>
                  </a:lnTo>
                  <a:lnTo>
                    <a:pt x="1092" y="443"/>
                  </a:lnTo>
                  <a:lnTo>
                    <a:pt x="1099" y="411"/>
                  </a:lnTo>
                  <a:lnTo>
                    <a:pt x="1103" y="377"/>
                  </a:lnTo>
                  <a:lnTo>
                    <a:pt x="1104" y="340"/>
                  </a:lnTo>
                  <a:close/>
                  <a:moveTo>
                    <a:pt x="1004" y="340"/>
                  </a:moveTo>
                  <a:lnTo>
                    <a:pt x="1003" y="368"/>
                  </a:lnTo>
                  <a:lnTo>
                    <a:pt x="1001" y="394"/>
                  </a:lnTo>
                  <a:lnTo>
                    <a:pt x="996" y="419"/>
                  </a:lnTo>
                  <a:lnTo>
                    <a:pt x="990" y="442"/>
                  </a:lnTo>
                  <a:lnTo>
                    <a:pt x="982" y="465"/>
                  </a:lnTo>
                  <a:lnTo>
                    <a:pt x="972" y="485"/>
                  </a:lnTo>
                  <a:lnTo>
                    <a:pt x="961" y="505"/>
                  </a:lnTo>
                  <a:lnTo>
                    <a:pt x="948" y="523"/>
                  </a:lnTo>
                  <a:lnTo>
                    <a:pt x="933" y="541"/>
                  </a:lnTo>
                  <a:lnTo>
                    <a:pt x="915" y="556"/>
                  </a:lnTo>
                  <a:lnTo>
                    <a:pt x="898" y="568"/>
                  </a:lnTo>
                  <a:lnTo>
                    <a:pt x="878" y="579"/>
                  </a:lnTo>
                  <a:lnTo>
                    <a:pt x="858" y="587"/>
                  </a:lnTo>
                  <a:lnTo>
                    <a:pt x="835" y="593"/>
                  </a:lnTo>
                  <a:lnTo>
                    <a:pt x="813" y="596"/>
                  </a:lnTo>
                  <a:lnTo>
                    <a:pt x="788" y="597"/>
                  </a:lnTo>
                  <a:lnTo>
                    <a:pt x="763" y="596"/>
                  </a:lnTo>
                  <a:lnTo>
                    <a:pt x="740" y="593"/>
                  </a:lnTo>
                  <a:lnTo>
                    <a:pt x="729" y="590"/>
                  </a:lnTo>
                  <a:lnTo>
                    <a:pt x="718" y="587"/>
                  </a:lnTo>
                  <a:lnTo>
                    <a:pt x="698" y="579"/>
                  </a:lnTo>
                  <a:lnTo>
                    <a:pt x="678" y="568"/>
                  </a:lnTo>
                  <a:lnTo>
                    <a:pt x="660" y="556"/>
                  </a:lnTo>
                  <a:lnTo>
                    <a:pt x="652" y="549"/>
                  </a:lnTo>
                  <a:lnTo>
                    <a:pt x="644" y="541"/>
                  </a:lnTo>
                  <a:lnTo>
                    <a:pt x="628" y="523"/>
                  </a:lnTo>
                  <a:lnTo>
                    <a:pt x="615" y="505"/>
                  </a:lnTo>
                  <a:lnTo>
                    <a:pt x="603" y="485"/>
                  </a:lnTo>
                  <a:lnTo>
                    <a:pt x="593" y="465"/>
                  </a:lnTo>
                  <a:lnTo>
                    <a:pt x="585" y="442"/>
                  </a:lnTo>
                  <a:lnTo>
                    <a:pt x="579" y="419"/>
                  </a:lnTo>
                  <a:lnTo>
                    <a:pt x="574" y="394"/>
                  </a:lnTo>
                  <a:lnTo>
                    <a:pt x="572" y="368"/>
                  </a:lnTo>
                  <a:lnTo>
                    <a:pt x="571" y="340"/>
                  </a:lnTo>
                  <a:lnTo>
                    <a:pt x="572" y="313"/>
                  </a:lnTo>
                  <a:lnTo>
                    <a:pt x="574" y="288"/>
                  </a:lnTo>
                  <a:lnTo>
                    <a:pt x="579" y="263"/>
                  </a:lnTo>
                  <a:lnTo>
                    <a:pt x="585" y="240"/>
                  </a:lnTo>
                  <a:lnTo>
                    <a:pt x="593" y="217"/>
                  </a:lnTo>
                  <a:lnTo>
                    <a:pt x="603" y="197"/>
                  </a:lnTo>
                  <a:lnTo>
                    <a:pt x="615" y="176"/>
                  </a:lnTo>
                  <a:lnTo>
                    <a:pt x="628" y="159"/>
                  </a:lnTo>
                  <a:lnTo>
                    <a:pt x="644" y="140"/>
                  </a:lnTo>
                  <a:lnTo>
                    <a:pt x="661" y="126"/>
                  </a:lnTo>
                  <a:lnTo>
                    <a:pt x="678" y="113"/>
                  </a:lnTo>
                  <a:lnTo>
                    <a:pt x="698" y="102"/>
                  </a:lnTo>
                  <a:lnTo>
                    <a:pt x="718" y="94"/>
                  </a:lnTo>
                  <a:lnTo>
                    <a:pt x="740" y="88"/>
                  </a:lnTo>
                  <a:lnTo>
                    <a:pt x="763" y="85"/>
                  </a:lnTo>
                  <a:lnTo>
                    <a:pt x="788" y="84"/>
                  </a:lnTo>
                  <a:lnTo>
                    <a:pt x="813" y="85"/>
                  </a:lnTo>
                  <a:lnTo>
                    <a:pt x="835" y="88"/>
                  </a:lnTo>
                  <a:lnTo>
                    <a:pt x="857" y="94"/>
                  </a:lnTo>
                  <a:lnTo>
                    <a:pt x="877" y="102"/>
                  </a:lnTo>
                  <a:lnTo>
                    <a:pt x="897" y="113"/>
                  </a:lnTo>
                  <a:lnTo>
                    <a:pt x="915" y="126"/>
                  </a:lnTo>
                  <a:lnTo>
                    <a:pt x="931" y="140"/>
                  </a:lnTo>
                  <a:lnTo>
                    <a:pt x="948" y="159"/>
                  </a:lnTo>
                  <a:lnTo>
                    <a:pt x="961" y="176"/>
                  </a:lnTo>
                  <a:lnTo>
                    <a:pt x="972" y="197"/>
                  </a:lnTo>
                  <a:lnTo>
                    <a:pt x="982" y="217"/>
                  </a:lnTo>
                  <a:lnTo>
                    <a:pt x="990" y="240"/>
                  </a:lnTo>
                  <a:lnTo>
                    <a:pt x="996" y="263"/>
                  </a:lnTo>
                  <a:lnTo>
                    <a:pt x="1001" y="288"/>
                  </a:lnTo>
                  <a:lnTo>
                    <a:pt x="1003" y="313"/>
                  </a:lnTo>
                  <a:lnTo>
                    <a:pt x="1004" y="340"/>
                  </a:lnTo>
                  <a:close/>
                  <a:moveTo>
                    <a:pt x="1717" y="669"/>
                  </a:moveTo>
                  <a:lnTo>
                    <a:pt x="1717" y="585"/>
                  </a:lnTo>
                  <a:lnTo>
                    <a:pt x="1697" y="585"/>
                  </a:lnTo>
                  <a:lnTo>
                    <a:pt x="1689" y="584"/>
                  </a:lnTo>
                  <a:lnTo>
                    <a:pt x="1681" y="580"/>
                  </a:lnTo>
                  <a:lnTo>
                    <a:pt x="1671" y="572"/>
                  </a:lnTo>
                  <a:lnTo>
                    <a:pt x="1662" y="563"/>
                  </a:lnTo>
                  <a:lnTo>
                    <a:pt x="1644" y="536"/>
                  </a:lnTo>
                  <a:lnTo>
                    <a:pt x="1623" y="497"/>
                  </a:lnTo>
                  <a:lnTo>
                    <a:pt x="1598" y="444"/>
                  </a:lnTo>
                  <a:lnTo>
                    <a:pt x="1574" y="402"/>
                  </a:lnTo>
                  <a:lnTo>
                    <a:pt x="1552" y="370"/>
                  </a:lnTo>
                  <a:lnTo>
                    <a:pt x="1533" y="346"/>
                  </a:lnTo>
                  <a:lnTo>
                    <a:pt x="1564" y="331"/>
                  </a:lnTo>
                  <a:lnTo>
                    <a:pt x="1590" y="314"/>
                  </a:lnTo>
                  <a:lnTo>
                    <a:pt x="1613" y="296"/>
                  </a:lnTo>
                  <a:lnTo>
                    <a:pt x="1631" y="276"/>
                  </a:lnTo>
                  <a:lnTo>
                    <a:pt x="1645" y="255"/>
                  </a:lnTo>
                  <a:lnTo>
                    <a:pt x="1655" y="232"/>
                  </a:lnTo>
                  <a:lnTo>
                    <a:pt x="1661" y="208"/>
                  </a:lnTo>
                  <a:lnTo>
                    <a:pt x="1663" y="183"/>
                  </a:lnTo>
                  <a:lnTo>
                    <a:pt x="1662" y="164"/>
                  </a:lnTo>
                  <a:lnTo>
                    <a:pt x="1660" y="145"/>
                  </a:lnTo>
                  <a:lnTo>
                    <a:pt x="1655" y="128"/>
                  </a:lnTo>
                  <a:lnTo>
                    <a:pt x="1649" y="112"/>
                  </a:lnTo>
                  <a:lnTo>
                    <a:pt x="1641" y="97"/>
                  </a:lnTo>
                  <a:lnTo>
                    <a:pt x="1631" y="83"/>
                  </a:lnTo>
                  <a:lnTo>
                    <a:pt x="1619" y="70"/>
                  </a:lnTo>
                  <a:lnTo>
                    <a:pt x="1606" y="58"/>
                  </a:lnTo>
                  <a:lnTo>
                    <a:pt x="1591" y="47"/>
                  </a:lnTo>
                  <a:lnTo>
                    <a:pt x="1576" y="38"/>
                  </a:lnTo>
                  <a:lnTo>
                    <a:pt x="1559" y="30"/>
                  </a:lnTo>
                  <a:lnTo>
                    <a:pt x="1541" y="23"/>
                  </a:lnTo>
                  <a:lnTo>
                    <a:pt x="1523" y="18"/>
                  </a:lnTo>
                  <a:lnTo>
                    <a:pt x="1503" y="14"/>
                  </a:lnTo>
                  <a:lnTo>
                    <a:pt x="1461" y="12"/>
                  </a:lnTo>
                  <a:lnTo>
                    <a:pt x="1242" y="12"/>
                  </a:lnTo>
                  <a:lnTo>
                    <a:pt x="1242" y="669"/>
                  </a:lnTo>
                  <a:lnTo>
                    <a:pt x="1338" y="669"/>
                  </a:lnTo>
                  <a:lnTo>
                    <a:pt x="1338" y="378"/>
                  </a:lnTo>
                  <a:lnTo>
                    <a:pt x="1411" y="378"/>
                  </a:lnTo>
                  <a:lnTo>
                    <a:pt x="1423" y="379"/>
                  </a:lnTo>
                  <a:lnTo>
                    <a:pt x="1436" y="383"/>
                  </a:lnTo>
                  <a:lnTo>
                    <a:pt x="1448" y="389"/>
                  </a:lnTo>
                  <a:lnTo>
                    <a:pt x="1459" y="397"/>
                  </a:lnTo>
                  <a:lnTo>
                    <a:pt x="1470" y="408"/>
                  </a:lnTo>
                  <a:lnTo>
                    <a:pt x="1481" y="421"/>
                  </a:lnTo>
                  <a:lnTo>
                    <a:pt x="1491" y="436"/>
                  </a:lnTo>
                  <a:lnTo>
                    <a:pt x="1500" y="454"/>
                  </a:lnTo>
                  <a:lnTo>
                    <a:pt x="1568" y="593"/>
                  </a:lnTo>
                  <a:lnTo>
                    <a:pt x="1581" y="611"/>
                  </a:lnTo>
                  <a:lnTo>
                    <a:pt x="1594" y="627"/>
                  </a:lnTo>
                  <a:lnTo>
                    <a:pt x="1610" y="639"/>
                  </a:lnTo>
                  <a:lnTo>
                    <a:pt x="1625" y="650"/>
                  </a:lnTo>
                  <a:lnTo>
                    <a:pt x="1642" y="658"/>
                  </a:lnTo>
                  <a:lnTo>
                    <a:pt x="1659" y="665"/>
                  </a:lnTo>
                  <a:lnTo>
                    <a:pt x="1678" y="668"/>
                  </a:lnTo>
                  <a:lnTo>
                    <a:pt x="1697" y="669"/>
                  </a:lnTo>
                  <a:lnTo>
                    <a:pt x="1717" y="669"/>
                  </a:lnTo>
                  <a:close/>
                  <a:moveTo>
                    <a:pt x="1563" y="183"/>
                  </a:moveTo>
                  <a:lnTo>
                    <a:pt x="1561" y="205"/>
                  </a:lnTo>
                  <a:lnTo>
                    <a:pt x="1553" y="225"/>
                  </a:lnTo>
                  <a:lnTo>
                    <a:pt x="1548" y="234"/>
                  </a:lnTo>
                  <a:lnTo>
                    <a:pt x="1543" y="244"/>
                  </a:lnTo>
                  <a:lnTo>
                    <a:pt x="1536" y="253"/>
                  </a:lnTo>
                  <a:lnTo>
                    <a:pt x="1528" y="261"/>
                  </a:lnTo>
                  <a:lnTo>
                    <a:pt x="1509" y="276"/>
                  </a:lnTo>
                  <a:lnTo>
                    <a:pt x="1500" y="282"/>
                  </a:lnTo>
                  <a:lnTo>
                    <a:pt x="1490" y="287"/>
                  </a:lnTo>
                  <a:lnTo>
                    <a:pt x="1468" y="293"/>
                  </a:lnTo>
                  <a:lnTo>
                    <a:pt x="1445" y="295"/>
                  </a:lnTo>
                  <a:lnTo>
                    <a:pt x="1338" y="295"/>
                  </a:lnTo>
                  <a:lnTo>
                    <a:pt x="1338" y="94"/>
                  </a:lnTo>
                  <a:lnTo>
                    <a:pt x="1445" y="94"/>
                  </a:lnTo>
                  <a:lnTo>
                    <a:pt x="1467" y="95"/>
                  </a:lnTo>
                  <a:lnTo>
                    <a:pt x="1489" y="99"/>
                  </a:lnTo>
                  <a:lnTo>
                    <a:pt x="1507" y="106"/>
                  </a:lnTo>
                  <a:lnTo>
                    <a:pt x="1526" y="117"/>
                  </a:lnTo>
                  <a:lnTo>
                    <a:pt x="1541" y="130"/>
                  </a:lnTo>
                  <a:lnTo>
                    <a:pt x="1553" y="145"/>
                  </a:lnTo>
                  <a:lnTo>
                    <a:pt x="1560" y="164"/>
                  </a:lnTo>
                  <a:lnTo>
                    <a:pt x="1563" y="183"/>
                  </a:lnTo>
                  <a:close/>
                  <a:moveTo>
                    <a:pt x="2684" y="669"/>
                  </a:moveTo>
                  <a:lnTo>
                    <a:pt x="2684" y="12"/>
                  </a:lnTo>
                  <a:lnTo>
                    <a:pt x="2586" y="12"/>
                  </a:lnTo>
                  <a:lnTo>
                    <a:pt x="2586" y="281"/>
                  </a:lnTo>
                  <a:lnTo>
                    <a:pt x="2269" y="281"/>
                  </a:lnTo>
                  <a:lnTo>
                    <a:pt x="2269" y="12"/>
                  </a:lnTo>
                  <a:lnTo>
                    <a:pt x="2173" y="12"/>
                  </a:lnTo>
                  <a:lnTo>
                    <a:pt x="2173" y="669"/>
                  </a:lnTo>
                  <a:lnTo>
                    <a:pt x="2269" y="669"/>
                  </a:lnTo>
                  <a:lnTo>
                    <a:pt x="2269" y="365"/>
                  </a:lnTo>
                  <a:lnTo>
                    <a:pt x="2586" y="365"/>
                  </a:lnTo>
                  <a:lnTo>
                    <a:pt x="2586" y="669"/>
                  </a:lnTo>
                  <a:lnTo>
                    <a:pt x="2684" y="669"/>
                  </a:lnTo>
                  <a:close/>
                  <a:moveTo>
                    <a:pt x="3237" y="94"/>
                  </a:moveTo>
                  <a:lnTo>
                    <a:pt x="3237" y="12"/>
                  </a:lnTo>
                  <a:lnTo>
                    <a:pt x="2867" y="12"/>
                  </a:lnTo>
                  <a:lnTo>
                    <a:pt x="2867" y="669"/>
                  </a:lnTo>
                  <a:lnTo>
                    <a:pt x="3235" y="669"/>
                  </a:lnTo>
                  <a:lnTo>
                    <a:pt x="3235" y="585"/>
                  </a:lnTo>
                  <a:lnTo>
                    <a:pt x="2962" y="585"/>
                  </a:lnTo>
                  <a:lnTo>
                    <a:pt x="2962" y="369"/>
                  </a:lnTo>
                  <a:lnTo>
                    <a:pt x="3212" y="369"/>
                  </a:lnTo>
                  <a:lnTo>
                    <a:pt x="3212" y="285"/>
                  </a:lnTo>
                  <a:lnTo>
                    <a:pt x="2962" y="285"/>
                  </a:lnTo>
                  <a:lnTo>
                    <a:pt x="2962" y="94"/>
                  </a:lnTo>
                  <a:lnTo>
                    <a:pt x="3237" y="94"/>
                  </a:lnTo>
                  <a:close/>
                  <a:moveTo>
                    <a:pt x="3985" y="669"/>
                  </a:moveTo>
                  <a:lnTo>
                    <a:pt x="3698" y="12"/>
                  </a:lnTo>
                  <a:lnTo>
                    <a:pt x="3607" y="12"/>
                  </a:lnTo>
                  <a:lnTo>
                    <a:pt x="3320" y="669"/>
                  </a:lnTo>
                  <a:lnTo>
                    <a:pt x="3423" y="669"/>
                  </a:lnTo>
                  <a:lnTo>
                    <a:pt x="3491" y="501"/>
                  </a:lnTo>
                  <a:lnTo>
                    <a:pt x="3814" y="501"/>
                  </a:lnTo>
                  <a:lnTo>
                    <a:pt x="3882" y="669"/>
                  </a:lnTo>
                  <a:lnTo>
                    <a:pt x="3985" y="669"/>
                  </a:lnTo>
                  <a:close/>
                  <a:moveTo>
                    <a:pt x="3783" y="425"/>
                  </a:moveTo>
                  <a:lnTo>
                    <a:pt x="3523" y="425"/>
                  </a:lnTo>
                  <a:lnTo>
                    <a:pt x="3653" y="102"/>
                  </a:lnTo>
                  <a:lnTo>
                    <a:pt x="3783" y="425"/>
                  </a:lnTo>
                  <a:close/>
                  <a:moveTo>
                    <a:pt x="4455" y="669"/>
                  </a:moveTo>
                  <a:lnTo>
                    <a:pt x="4455" y="585"/>
                  </a:lnTo>
                  <a:lnTo>
                    <a:pt x="4186" y="585"/>
                  </a:lnTo>
                  <a:lnTo>
                    <a:pt x="4186" y="12"/>
                  </a:lnTo>
                  <a:lnTo>
                    <a:pt x="4090" y="12"/>
                  </a:lnTo>
                  <a:lnTo>
                    <a:pt x="4090" y="669"/>
                  </a:lnTo>
                  <a:lnTo>
                    <a:pt x="4455" y="669"/>
                  </a:lnTo>
                  <a:close/>
                  <a:moveTo>
                    <a:pt x="4996" y="94"/>
                  </a:moveTo>
                  <a:lnTo>
                    <a:pt x="4996" y="12"/>
                  </a:lnTo>
                  <a:lnTo>
                    <a:pt x="4500" y="12"/>
                  </a:lnTo>
                  <a:lnTo>
                    <a:pt x="4500" y="94"/>
                  </a:lnTo>
                  <a:lnTo>
                    <a:pt x="4700" y="94"/>
                  </a:lnTo>
                  <a:lnTo>
                    <a:pt x="4700" y="669"/>
                  </a:lnTo>
                  <a:lnTo>
                    <a:pt x="4796" y="669"/>
                  </a:lnTo>
                  <a:lnTo>
                    <a:pt x="4796" y="94"/>
                  </a:lnTo>
                  <a:lnTo>
                    <a:pt x="4996" y="94"/>
                  </a:lnTo>
                  <a:close/>
                  <a:moveTo>
                    <a:pt x="5619" y="669"/>
                  </a:moveTo>
                  <a:lnTo>
                    <a:pt x="5619" y="12"/>
                  </a:lnTo>
                  <a:lnTo>
                    <a:pt x="5522" y="12"/>
                  </a:lnTo>
                  <a:lnTo>
                    <a:pt x="5522" y="281"/>
                  </a:lnTo>
                  <a:lnTo>
                    <a:pt x="5203" y="281"/>
                  </a:lnTo>
                  <a:lnTo>
                    <a:pt x="5203" y="12"/>
                  </a:lnTo>
                  <a:lnTo>
                    <a:pt x="5108" y="12"/>
                  </a:lnTo>
                  <a:lnTo>
                    <a:pt x="5108" y="669"/>
                  </a:lnTo>
                  <a:lnTo>
                    <a:pt x="5203" y="669"/>
                  </a:lnTo>
                  <a:lnTo>
                    <a:pt x="5203" y="365"/>
                  </a:lnTo>
                  <a:lnTo>
                    <a:pt x="5522" y="365"/>
                  </a:lnTo>
                  <a:lnTo>
                    <a:pt x="5522" y="669"/>
                  </a:lnTo>
                  <a:lnTo>
                    <a:pt x="5619" y="669"/>
                  </a:lnTo>
                  <a:close/>
                  <a:moveTo>
                    <a:pt x="6721" y="669"/>
                  </a:moveTo>
                  <a:lnTo>
                    <a:pt x="6434" y="12"/>
                  </a:lnTo>
                  <a:lnTo>
                    <a:pt x="6342" y="12"/>
                  </a:lnTo>
                  <a:lnTo>
                    <a:pt x="6056" y="669"/>
                  </a:lnTo>
                  <a:lnTo>
                    <a:pt x="6159" y="669"/>
                  </a:lnTo>
                  <a:lnTo>
                    <a:pt x="6227" y="501"/>
                  </a:lnTo>
                  <a:lnTo>
                    <a:pt x="6549" y="501"/>
                  </a:lnTo>
                  <a:lnTo>
                    <a:pt x="6617" y="669"/>
                  </a:lnTo>
                  <a:lnTo>
                    <a:pt x="6721" y="669"/>
                  </a:lnTo>
                  <a:close/>
                  <a:moveTo>
                    <a:pt x="6519" y="425"/>
                  </a:moveTo>
                  <a:lnTo>
                    <a:pt x="6258" y="425"/>
                  </a:lnTo>
                  <a:lnTo>
                    <a:pt x="6388" y="102"/>
                  </a:lnTo>
                  <a:lnTo>
                    <a:pt x="6519" y="425"/>
                  </a:lnTo>
                  <a:close/>
                  <a:moveTo>
                    <a:pt x="7337" y="669"/>
                  </a:moveTo>
                  <a:lnTo>
                    <a:pt x="7337" y="12"/>
                  </a:lnTo>
                  <a:lnTo>
                    <a:pt x="7240" y="12"/>
                  </a:lnTo>
                  <a:lnTo>
                    <a:pt x="7240" y="538"/>
                  </a:lnTo>
                  <a:lnTo>
                    <a:pt x="7236" y="538"/>
                  </a:lnTo>
                  <a:lnTo>
                    <a:pt x="6950" y="12"/>
                  </a:lnTo>
                  <a:lnTo>
                    <a:pt x="6825" y="12"/>
                  </a:lnTo>
                  <a:lnTo>
                    <a:pt x="6825" y="669"/>
                  </a:lnTo>
                  <a:lnTo>
                    <a:pt x="6922" y="669"/>
                  </a:lnTo>
                  <a:lnTo>
                    <a:pt x="6922" y="142"/>
                  </a:lnTo>
                  <a:lnTo>
                    <a:pt x="6925" y="142"/>
                  </a:lnTo>
                  <a:lnTo>
                    <a:pt x="7212" y="669"/>
                  </a:lnTo>
                  <a:lnTo>
                    <a:pt x="7337" y="669"/>
                  </a:lnTo>
                  <a:close/>
                  <a:moveTo>
                    <a:pt x="8056" y="343"/>
                  </a:moveTo>
                  <a:lnTo>
                    <a:pt x="8055" y="309"/>
                  </a:lnTo>
                  <a:lnTo>
                    <a:pt x="8051" y="277"/>
                  </a:lnTo>
                  <a:lnTo>
                    <a:pt x="8044" y="246"/>
                  </a:lnTo>
                  <a:lnTo>
                    <a:pt x="8034" y="216"/>
                  </a:lnTo>
                  <a:lnTo>
                    <a:pt x="8022" y="188"/>
                  </a:lnTo>
                  <a:lnTo>
                    <a:pt x="8008" y="161"/>
                  </a:lnTo>
                  <a:lnTo>
                    <a:pt x="7990" y="135"/>
                  </a:lnTo>
                  <a:lnTo>
                    <a:pt x="7970" y="111"/>
                  </a:lnTo>
                  <a:lnTo>
                    <a:pt x="7947" y="88"/>
                  </a:lnTo>
                  <a:lnTo>
                    <a:pt x="7923" y="68"/>
                  </a:lnTo>
                  <a:lnTo>
                    <a:pt x="7896" y="51"/>
                  </a:lnTo>
                  <a:lnTo>
                    <a:pt x="7868" y="37"/>
                  </a:lnTo>
                  <a:lnTo>
                    <a:pt x="7839" y="26"/>
                  </a:lnTo>
                  <a:lnTo>
                    <a:pt x="7808" y="18"/>
                  </a:lnTo>
                  <a:lnTo>
                    <a:pt x="7775" y="13"/>
                  </a:lnTo>
                  <a:lnTo>
                    <a:pt x="7740" y="12"/>
                  </a:lnTo>
                  <a:lnTo>
                    <a:pt x="7509" y="12"/>
                  </a:lnTo>
                  <a:lnTo>
                    <a:pt x="7509" y="669"/>
                  </a:lnTo>
                  <a:lnTo>
                    <a:pt x="7740" y="669"/>
                  </a:lnTo>
                  <a:lnTo>
                    <a:pt x="7775" y="668"/>
                  </a:lnTo>
                  <a:lnTo>
                    <a:pt x="7808" y="663"/>
                  </a:lnTo>
                  <a:lnTo>
                    <a:pt x="7839" y="655"/>
                  </a:lnTo>
                  <a:lnTo>
                    <a:pt x="7868" y="645"/>
                  </a:lnTo>
                  <a:lnTo>
                    <a:pt x="7896" y="631"/>
                  </a:lnTo>
                  <a:lnTo>
                    <a:pt x="7923" y="614"/>
                  </a:lnTo>
                  <a:lnTo>
                    <a:pt x="7947" y="595"/>
                  </a:lnTo>
                  <a:lnTo>
                    <a:pt x="7970" y="572"/>
                  </a:lnTo>
                  <a:lnTo>
                    <a:pt x="7990" y="549"/>
                  </a:lnTo>
                  <a:lnTo>
                    <a:pt x="8008" y="523"/>
                  </a:lnTo>
                  <a:lnTo>
                    <a:pt x="8022" y="498"/>
                  </a:lnTo>
                  <a:lnTo>
                    <a:pt x="8034" y="469"/>
                  </a:lnTo>
                  <a:lnTo>
                    <a:pt x="8044" y="440"/>
                  </a:lnTo>
                  <a:lnTo>
                    <a:pt x="8051" y="409"/>
                  </a:lnTo>
                  <a:lnTo>
                    <a:pt x="8055" y="377"/>
                  </a:lnTo>
                  <a:lnTo>
                    <a:pt x="8056" y="343"/>
                  </a:lnTo>
                  <a:close/>
                  <a:moveTo>
                    <a:pt x="7961" y="343"/>
                  </a:moveTo>
                  <a:lnTo>
                    <a:pt x="7960" y="368"/>
                  </a:lnTo>
                  <a:lnTo>
                    <a:pt x="7956" y="391"/>
                  </a:lnTo>
                  <a:lnTo>
                    <a:pt x="7952" y="415"/>
                  </a:lnTo>
                  <a:lnTo>
                    <a:pt x="7945" y="436"/>
                  </a:lnTo>
                  <a:lnTo>
                    <a:pt x="7937" y="457"/>
                  </a:lnTo>
                  <a:lnTo>
                    <a:pt x="7927" y="476"/>
                  </a:lnTo>
                  <a:lnTo>
                    <a:pt x="7914" y="496"/>
                  </a:lnTo>
                  <a:lnTo>
                    <a:pt x="7900" y="513"/>
                  </a:lnTo>
                  <a:lnTo>
                    <a:pt x="7884" y="530"/>
                  </a:lnTo>
                  <a:lnTo>
                    <a:pt x="7866" y="545"/>
                  </a:lnTo>
                  <a:lnTo>
                    <a:pt x="7849" y="557"/>
                  </a:lnTo>
                  <a:lnTo>
                    <a:pt x="7829" y="567"/>
                  </a:lnTo>
                  <a:lnTo>
                    <a:pt x="7809" y="574"/>
                  </a:lnTo>
                  <a:lnTo>
                    <a:pt x="7787" y="581"/>
                  </a:lnTo>
                  <a:lnTo>
                    <a:pt x="7765" y="584"/>
                  </a:lnTo>
                  <a:lnTo>
                    <a:pt x="7740" y="585"/>
                  </a:lnTo>
                  <a:lnTo>
                    <a:pt x="7605" y="585"/>
                  </a:lnTo>
                  <a:lnTo>
                    <a:pt x="7605" y="96"/>
                  </a:lnTo>
                  <a:lnTo>
                    <a:pt x="7740" y="96"/>
                  </a:lnTo>
                  <a:lnTo>
                    <a:pt x="7765" y="97"/>
                  </a:lnTo>
                  <a:lnTo>
                    <a:pt x="7787" y="100"/>
                  </a:lnTo>
                  <a:lnTo>
                    <a:pt x="7809" y="106"/>
                  </a:lnTo>
                  <a:lnTo>
                    <a:pt x="7829" y="115"/>
                  </a:lnTo>
                  <a:lnTo>
                    <a:pt x="7849" y="125"/>
                  </a:lnTo>
                  <a:lnTo>
                    <a:pt x="7866" y="138"/>
                  </a:lnTo>
                  <a:lnTo>
                    <a:pt x="7884" y="154"/>
                  </a:lnTo>
                  <a:lnTo>
                    <a:pt x="7900" y="171"/>
                  </a:lnTo>
                  <a:lnTo>
                    <a:pt x="7927" y="209"/>
                  </a:lnTo>
                  <a:lnTo>
                    <a:pt x="7937" y="229"/>
                  </a:lnTo>
                  <a:lnTo>
                    <a:pt x="7945" y="250"/>
                  </a:lnTo>
                  <a:lnTo>
                    <a:pt x="7952" y="272"/>
                  </a:lnTo>
                  <a:lnTo>
                    <a:pt x="7956" y="295"/>
                  </a:lnTo>
                  <a:lnTo>
                    <a:pt x="7960" y="318"/>
                  </a:lnTo>
                  <a:lnTo>
                    <a:pt x="7961" y="343"/>
                  </a:lnTo>
                  <a:close/>
                  <a:moveTo>
                    <a:pt x="9395" y="12"/>
                  </a:moveTo>
                  <a:lnTo>
                    <a:pt x="9294" y="12"/>
                  </a:lnTo>
                  <a:lnTo>
                    <a:pt x="9134" y="554"/>
                  </a:lnTo>
                  <a:lnTo>
                    <a:pt x="9126" y="554"/>
                  </a:lnTo>
                  <a:lnTo>
                    <a:pt x="8987" y="12"/>
                  </a:lnTo>
                  <a:lnTo>
                    <a:pt x="8858" y="12"/>
                  </a:lnTo>
                  <a:lnTo>
                    <a:pt x="8720" y="554"/>
                  </a:lnTo>
                  <a:lnTo>
                    <a:pt x="8713" y="554"/>
                  </a:lnTo>
                  <a:lnTo>
                    <a:pt x="8552" y="12"/>
                  </a:lnTo>
                  <a:lnTo>
                    <a:pt x="8450" y="12"/>
                  </a:lnTo>
                  <a:lnTo>
                    <a:pt x="8655" y="669"/>
                  </a:lnTo>
                  <a:lnTo>
                    <a:pt x="8776" y="669"/>
                  </a:lnTo>
                  <a:lnTo>
                    <a:pt x="8921" y="98"/>
                  </a:lnTo>
                  <a:lnTo>
                    <a:pt x="8925" y="98"/>
                  </a:lnTo>
                  <a:lnTo>
                    <a:pt x="9069" y="669"/>
                  </a:lnTo>
                  <a:lnTo>
                    <a:pt x="9190" y="669"/>
                  </a:lnTo>
                  <a:lnTo>
                    <a:pt x="9395" y="12"/>
                  </a:lnTo>
                  <a:close/>
                  <a:moveTo>
                    <a:pt x="9873" y="94"/>
                  </a:moveTo>
                  <a:lnTo>
                    <a:pt x="9873" y="12"/>
                  </a:lnTo>
                  <a:lnTo>
                    <a:pt x="9503" y="12"/>
                  </a:lnTo>
                  <a:lnTo>
                    <a:pt x="9503" y="669"/>
                  </a:lnTo>
                  <a:lnTo>
                    <a:pt x="9871" y="669"/>
                  </a:lnTo>
                  <a:lnTo>
                    <a:pt x="9871" y="585"/>
                  </a:lnTo>
                  <a:lnTo>
                    <a:pt x="9598" y="585"/>
                  </a:lnTo>
                  <a:lnTo>
                    <a:pt x="9598" y="369"/>
                  </a:lnTo>
                  <a:lnTo>
                    <a:pt x="9848" y="369"/>
                  </a:lnTo>
                  <a:lnTo>
                    <a:pt x="9848" y="285"/>
                  </a:lnTo>
                  <a:lnTo>
                    <a:pt x="9598" y="285"/>
                  </a:lnTo>
                  <a:lnTo>
                    <a:pt x="9598" y="94"/>
                  </a:lnTo>
                  <a:lnTo>
                    <a:pt x="9873" y="94"/>
                  </a:lnTo>
                  <a:close/>
                  <a:moveTo>
                    <a:pt x="10398" y="669"/>
                  </a:moveTo>
                  <a:lnTo>
                    <a:pt x="10398" y="585"/>
                  </a:lnTo>
                  <a:lnTo>
                    <a:pt x="10129" y="585"/>
                  </a:lnTo>
                  <a:lnTo>
                    <a:pt x="10129" y="12"/>
                  </a:lnTo>
                  <a:lnTo>
                    <a:pt x="10033" y="12"/>
                  </a:lnTo>
                  <a:lnTo>
                    <a:pt x="10033" y="669"/>
                  </a:lnTo>
                  <a:lnTo>
                    <a:pt x="10398" y="669"/>
                  </a:lnTo>
                  <a:close/>
                  <a:moveTo>
                    <a:pt x="10889" y="94"/>
                  </a:moveTo>
                  <a:lnTo>
                    <a:pt x="10889" y="12"/>
                  </a:lnTo>
                  <a:lnTo>
                    <a:pt x="10518" y="12"/>
                  </a:lnTo>
                  <a:lnTo>
                    <a:pt x="10518" y="669"/>
                  </a:lnTo>
                  <a:lnTo>
                    <a:pt x="10613" y="669"/>
                  </a:lnTo>
                  <a:lnTo>
                    <a:pt x="10613" y="369"/>
                  </a:lnTo>
                  <a:lnTo>
                    <a:pt x="10864" y="369"/>
                  </a:lnTo>
                  <a:lnTo>
                    <a:pt x="10864" y="285"/>
                  </a:lnTo>
                  <a:lnTo>
                    <a:pt x="10613" y="285"/>
                  </a:lnTo>
                  <a:lnTo>
                    <a:pt x="10613" y="94"/>
                  </a:lnTo>
                  <a:lnTo>
                    <a:pt x="10889" y="94"/>
                  </a:lnTo>
                  <a:close/>
                  <a:moveTo>
                    <a:pt x="11580" y="669"/>
                  </a:moveTo>
                  <a:lnTo>
                    <a:pt x="11292" y="12"/>
                  </a:lnTo>
                  <a:lnTo>
                    <a:pt x="11201" y="12"/>
                  </a:lnTo>
                  <a:lnTo>
                    <a:pt x="10915" y="669"/>
                  </a:lnTo>
                  <a:lnTo>
                    <a:pt x="11017" y="669"/>
                  </a:lnTo>
                  <a:lnTo>
                    <a:pt x="11085" y="501"/>
                  </a:lnTo>
                  <a:lnTo>
                    <a:pt x="11408" y="501"/>
                  </a:lnTo>
                  <a:lnTo>
                    <a:pt x="11476" y="669"/>
                  </a:lnTo>
                  <a:lnTo>
                    <a:pt x="11580" y="669"/>
                  </a:lnTo>
                  <a:close/>
                  <a:moveTo>
                    <a:pt x="11377" y="425"/>
                  </a:moveTo>
                  <a:lnTo>
                    <a:pt x="11117" y="425"/>
                  </a:lnTo>
                  <a:lnTo>
                    <a:pt x="11247" y="102"/>
                  </a:lnTo>
                  <a:lnTo>
                    <a:pt x="11377" y="425"/>
                  </a:lnTo>
                  <a:close/>
                  <a:moveTo>
                    <a:pt x="12168" y="669"/>
                  </a:moveTo>
                  <a:lnTo>
                    <a:pt x="12168" y="585"/>
                  </a:lnTo>
                  <a:lnTo>
                    <a:pt x="12148" y="585"/>
                  </a:lnTo>
                  <a:lnTo>
                    <a:pt x="12140" y="584"/>
                  </a:lnTo>
                  <a:lnTo>
                    <a:pt x="12131" y="580"/>
                  </a:lnTo>
                  <a:lnTo>
                    <a:pt x="12123" y="572"/>
                  </a:lnTo>
                  <a:lnTo>
                    <a:pt x="12113" y="563"/>
                  </a:lnTo>
                  <a:lnTo>
                    <a:pt x="12094" y="536"/>
                  </a:lnTo>
                  <a:lnTo>
                    <a:pt x="12074" y="497"/>
                  </a:lnTo>
                  <a:lnTo>
                    <a:pt x="12048" y="444"/>
                  </a:lnTo>
                  <a:lnTo>
                    <a:pt x="12024" y="402"/>
                  </a:lnTo>
                  <a:lnTo>
                    <a:pt x="12003" y="370"/>
                  </a:lnTo>
                  <a:lnTo>
                    <a:pt x="11983" y="346"/>
                  </a:lnTo>
                  <a:lnTo>
                    <a:pt x="12014" y="331"/>
                  </a:lnTo>
                  <a:lnTo>
                    <a:pt x="12041" y="314"/>
                  </a:lnTo>
                  <a:lnTo>
                    <a:pt x="12063" y="296"/>
                  </a:lnTo>
                  <a:lnTo>
                    <a:pt x="12082" y="276"/>
                  </a:lnTo>
                  <a:lnTo>
                    <a:pt x="12096" y="255"/>
                  </a:lnTo>
                  <a:lnTo>
                    <a:pt x="12105" y="232"/>
                  </a:lnTo>
                  <a:lnTo>
                    <a:pt x="12111" y="208"/>
                  </a:lnTo>
                  <a:lnTo>
                    <a:pt x="12113" y="183"/>
                  </a:lnTo>
                  <a:lnTo>
                    <a:pt x="12113" y="164"/>
                  </a:lnTo>
                  <a:lnTo>
                    <a:pt x="12110" y="145"/>
                  </a:lnTo>
                  <a:lnTo>
                    <a:pt x="12106" y="128"/>
                  </a:lnTo>
                  <a:lnTo>
                    <a:pt x="12100" y="112"/>
                  </a:lnTo>
                  <a:lnTo>
                    <a:pt x="12092" y="97"/>
                  </a:lnTo>
                  <a:lnTo>
                    <a:pt x="12082" y="83"/>
                  </a:lnTo>
                  <a:lnTo>
                    <a:pt x="12070" y="70"/>
                  </a:lnTo>
                  <a:lnTo>
                    <a:pt x="12056" y="58"/>
                  </a:lnTo>
                  <a:lnTo>
                    <a:pt x="12042" y="47"/>
                  </a:lnTo>
                  <a:lnTo>
                    <a:pt x="12026" y="38"/>
                  </a:lnTo>
                  <a:lnTo>
                    <a:pt x="12010" y="30"/>
                  </a:lnTo>
                  <a:lnTo>
                    <a:pt x="11992" y="23"/>
                  </a:lnTo>
                  <a:lnTo>
                    <a:pt x="11973" y="18"/>
                  </a:lnTo>
                  <a:lnTo>
                    <a:pt x="11954" y="14"/>
                  </a:lnTo>
                  <a:lnTo>
                    <a:pt x="11912" y="12"/>
                  </a:lnTo>
                  <a:lnTo>
                    <a:pt x="11692" y="12"/>
                  </a:lnTo>
                  <a:lnTo>
                    <a:pt x="11692" y="669"/>
                  </a:lnTo>
                  <a:lnTo>
                    <a:pt x="11789" y="669"/>
                  </a:lnTo>
                  <a:lnTo>
                    <a:pt x="11789" y="378"/>
                  </a:lnTo>
                  <a:lnTo>
                    <a:pt x="11861" y="378"/>
                  </a:lnTo>
                  <a:lnTo>
                    <a:pt x="11875" y="379"/>
                  </a:lnTo>
                  <a:lnTo>
                    <a:pt x="11887" y="383"/>
                  </a:lnTo>
                  <a:lnTo>
                    <a:pt x="11898" y="389"/>
                  </a:lnTo>
                  <a:lnTo>
                    <a:pt x="11910" y="397"/>
                  </a:lnTo>
                  <a:lnTo>
                    <a:pt x="11921" y="408"/>
                  </a:lnTo>
                  <a:lnTo>
                    <a:pt x="11931" y="421"/>
                  </a:lnTo>
                  <a:lnTo>
                    <a:pt x="11941" y="436"/>
                  </a:lnTo>
                  <a:lnTo>
                    <a:pt x="11951" y="454"/>
                  </a:lnTo>
                  <a:lnTo>
                    <a:pt x="12018" y="593"/>
                  </a:lnTo>
                  <a:lnTo>
                    <a:pt x="12032" y="611"/>
                  </a:lnTo>
                  <a:lnTo>
                    <a:pt x="12045" y="627"/>
                  </a:lnTo>
                  <a:lnTo>
                    <a:pt x="12060" y="639"/>
                  </a:lnTo>
                  <a:lnTo>
                    <a:pt x="12076" y="650"/>
                  </a:lnTo>
                  <a:lnTo>
                    <a:pt x="12093" y="658"/>
                  </a:lnTo>
                  <a:lnTo>
                    <a:pt x="12110" y="665"/>
                  </a:lnTo>
                  <a:lnTo>
                    <a:pt x="12129" y="668"/>
                  </a:lnTo>
                  <a:lnTo>
                    <a:pt x="12148" y="669"/>
                  </a:lnTo>
                  <a:lnTo>
                    <a:pt x="12168" y="669"/>
                  </a:lnTo>
                  <a:close/>
                  <a:moveTo>
                    <a:pt x="12013" y="183"/>
                  </a:moveTo>
                  <a:lnTo>
                    <a:pt x="12011" y="205"/>
                  </a:lnTo>
                  <a:lnTo>
                    <a:pt x="12004" y="225"/>
                  </a:lnTo>
                  <a:lnTo>
                    <a:pt x="12000" y="234"/>
                  </a:lnTo>
                  <a:lnTo>
                    <a:pt x="11994" y="244"/>
                  </a:lnTo>
                  <a:lnTo>
                    <a:pt x="11986" y="253"/>
                  </a:lnTo>
                  <a:lnTo>
                    <a:pt x="11978" y="261"/>
                  </a:lnTo>
                  <a:lnTo>
                    <a:pt x="11960" y="276"/>
                  </a:lnTo>
                  <a:lnTo>
                    <a:pt x="11951" y="282"/>
                  </a:lnTo>
                  <a:lnTo>
                    <a:pt x="11940" y="287"/>
                  </a:lnTo>
                  <a:lnTo>
                    <a:pt x="11919" y="293"/>
                  </a:lnTo>
                  <a:lnTo>
                    <a:pt x="11896" y="295"/>
                  </a:lnTo>
                  <a:lnTo>
                    <a:pt x="11789" y="295"/>
                  </a:lnTo>
                  <a:lnTo>
                    <a:pt x="11789" y="94"/>
                  </a:lnTo>
                  <a:lnTo>
                    <a:pt x="11896" y="94"/>
                  </a:lnTo>
                  <a:lnTo>
                    <a:pt x="11919" y="95"/>
                  </a:lnTo>
                  <a:lnTo>
                    <a:pt x="11939" y="99"/>
                  </a:lnTo>
                  <a:lnTo>
                    <a:pt x="11959" y="106"/>
                  </a:lnTo>
                  <a:lnTo>
                    <a:pt x="11976" y="117"/>
                  </a:lnTo>
                  <a:lnTo>
                    <a:pt x="11993" y="130"/>
                  </a:lnTo>
                  <a:lnTo>
                    <a:pt x="12004" y="145"/>
                  </a:lnTo>
                  <a:lnTo>
                    <a:pt x="12011" y="164"/>
                  </a:lnTo>
                  <a:lnTo>
                    <a:pt x="12012" y="173"/>
                  </a:lnTo>
                  <a:lnTo>
                    <a:pt x="12013" y="183"/>
                  </a:lnTo>
                  <a:close/>
                  <a:moveTo>
                    <a:pt x="12677" y="94"/>
                  </a:moveTo>
                  <a:lnTo>
                    <a:pt x="12677" y="12"/>
                  </a:lnTo>
                  <a:lnTo>
                    <a:pt x="12307" y="12"/>
                  </a:lnTo>
                  <a:lnTo>
                    <a:pt x="12307" y="669"/>
                  </a:lnTo>
                  <a:lnTo>
                    <a:pt x="12675" y="669"/>
                  </a:lnTo>
                  <a:lnTo>
                    <a:pt x="12675" y="585"/>
                  </a:lnTo>
                  <a:lnTo>
                    <a:pt x="12402" y="585"/>
                  </a:lnTo>
                  <a:lnTo>
                    <a:pt x="12402" y="369"/>
                  </a:lnTo>
                  <a:lnTo>
                    <a:pt x="12652" y="369"/>
                  </a:lnTo>
                  <a:lnTo>
                    <a:pt x="12652" y="285"/>
                  </a:lnTo>
                  <a:lnTo>
                    <a:pt x="12402" y="285"/>
                  </a:lnTo>
                  <a:lnTo>
                    <a:pt x="12402" y="94"/>
                  </a:lnTo>
                  <a:lnTo>
                    <a:pt x="12677" y="94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640" y="6308640"/>
              <a:ext cx="1531800" cy="107640"/>
            </a:xfrm>
            <a:custGeom>
              <a:avLst/>
              <a:gdLst/>
              <a:ahLst/>
              <a:rect l="l" t="t" r="r" b="b"/>
              <a:pathLst>
                <a:path w="9651" h="683">
                  <a:moveTo>
                    <a:pt x="511" y="671"/>
                  </a:moveTo>
                  <a:lnTo>
                    <a:pt x="511" y="14"/>
                  </a:lnTo>
                  <a:lnTo>
                    <a:pt x="415" y="14"/>
                  </a:lnTo>
                  <a:lnTo>
                    <a:pt x="415" y="540"/>
                  </a:lnTo>
                  <a:lnTo>
                    <a:pt x="411" y="540"/>
                  </a:lnTo>
                  <a:lnTo>
                    <a:pt x="125" y="14"/>
                  </a:lnTo>
                  <a:lnTo>
                    <a:pt x="0" y="14"/>
                  </a:lnTo>
                  <a:lnTo>
                    <a:pt x="0" y="671"/>
                  </a:lnTo>
                  <a:lnTo>
                    <a:pt x="96" y="671"/>
                  </a:lnTo>
                  <a:lnTo>
                    <a:pt x="96" y="144"/>
                  </a:lnTo>
                  <a:lnTo>
                    <a:pt x="99" y="144"/>
                  </a:lnTo>
                  <a:lnTo>
                    <a:pt x="386" y="671"/>
                  </a:lnTo>
                  <a:lnTo>
                    <a:pt x="511" y="671"/>
                  </a:lnTo>
                  <a:close/>
                  <a:moveTo>
                    <a:pt x="1280" y="671"/>
                  </a:moveTo>
                  <a:lnTo>
                    <a:pt x="993" y="14"/>
                  </a:lnTo>
                  <a:lnTo>
                    <a:pt x="901" y="14"/>
                  </a:lnTo>
                  <a:lnTo>
                    <a:pt x="615" y="671"/>
                  </a:lnTo>
                  <a:lnTo>
                    <a:pt x="717" y="671"/>
                  </a:lnTo>
                  <a:lnTo>
                    <a:pt x="786" y="503"/>
                  </a:lnTo>
                  <a:lnTo>
                    <a:pt x="1108" y="503"/>
                  </a:lnTo>
                  <a:lnTo>
                    <a:pt x="1176" y="671"/>
                  </a:lnTo>
                  <a:lnTo>
                    <a:pt x="1280" y="671"/>
                  </a:lnTo>
                  <a:close/>
                  <a:moveTo>
                    <a:pt x="1078" y="427"/>
                  </a:moveTo>
                  <a:lnTo>
                    <a:pt x="817" y="427"/>
                  </a:lnTo>
                  <a:lnTo>
                    <a:pt x="947" y="104"/>
                  </a:lnTo>
                  <a:lnTo>
                    <a:pt x="1078" y="427"/>
                  </a:lnTo>
                  <a:close/>
                  <a:moveTo>
                    <a:pt x="1752" y="96"/>
                  </a:moveTo>
                  <a:lnTo>
                    <a:pt x="1752" y="14"/>
                  </a:lnTo>
                  <a:lnTo>
                    <a:pt x="1255" y="14"/>
                  </a:lnTo>
                  <a:lnTo>
                    <a:pt x="1255" y="96"/>
                  </a:lnTo>
                  <a:lnTo>
                    <a:pt x="1455" y="96"/>
                  </a:lnTo>
                  <a:lnTo>
                    <a:pt x="1455" y="671"/>
                  </a:lnTo>
                  <a:lnTo>
                    <a:pt x="1551" y="671"/>
                  </a:lnTo>
                  <a:lnTo>
                    <a:pt x="1551" y="96"/>
                  </a:lnTo>
                  <a:lnTo>
                    <a:pt x="1752" y="96"/>
                  </a:lnTo>
                  <a:close/>
                  <a:moveTo>
                    <a:pt x="1978" y="671"/>
                  </a:moveTo>
                  <a:lnTo>
                    <a:pt x="1978" y="14"/>
                  </a:lnTo>
                  <a:lnTo>
                    <a:pt x="1882" y="14"/>
                  </a:lnTo>
                  <a:lnTo>
                    <a:pt x="1882" y="671"/>
                  </a:lnTo>
                  <a:lnTo>
                    <a:pt x="1978" y="671"/>
                  </a:lnTo>
                  <a:close/>
                  <a:moveTo>
                    <a:pt x="2754" y="342"/>
                  </a:moveTo>
                  <a:lnTo>
                    <a:pt x="2752" y="306"/>
                  </a:lnTo>
                  <a:lnTo>
                    <a:pt x="2749" y="272"/>
                  </a:lnTo>
                  <a:lnTo>
                    <a:pt x="2743" y="240"/>
                  </a:lnTo>
                  <a:lnTo>
                    <a:pt x="2734" y="209"/>
                  </a:lnTo>
                  <a:lnTo>
                    <a:pt x="2722" y="179"/>
                  </a:lnTo>
                  <a:lnTo>
                    <a:pt x="2708" y="151"/>
                  </a:lnTo>
                  <a:lnTo>
                    <a:pt x="2693" y="125"/>
                  </a:lnTo>
                  <a:lnTo>
                    <a:pt x="2673" y="100"/>
                  </a:lnTo>
                  <a:lnTo>
                    <a:pt x="2651" y="78"/>
                  </a:lnTo>
                  <a:lnTo>
                    <a:pt x="2626" y="57"/>
                  </a:lnTo>
                  <a:lnTo>
                    <a:pt x="2601" y="40"/>
                  </a:lnTo>
                  <a:lnTo>
                    <a:pt x="2572" y="27"/>
                  </a:lnTo>
                  <a:lnTo>
                    <a:pt x="2541" y="15"/>
                  </a:lnTo>
                  <a:lnTo>
                    <a:pt x="2509" y="8"/>
                  </a:lnTo>
                  <a:lnTo>
                    <a:pt x="2475" y="3"/>
                  </a:lnTo>
                  <a:lnTo>
                    <a:pt x="2439" y="2"/>
                  </a:lnTo>
                  <a:lnTo>
                    <a:pt x="2402" y="3"/>
                  </a:lnTo>
                  <a:lnTo>
                    <a:pt x="2368" y="8"/>
                  </a:lnTo>
                  <a:lnTo>
                    <a:pt x="2335" y="15"/>
                  </a:lnTo>
                  <a:lnTo>
                    <a:pt x="2304" y="27"/>
                  </a:lnTo>
                  <a:lnTo>
                    <a:pt x="2277" y="40"/>
                  </a:lnTo>
                  <a:lnTo>
                    <a:pt x="2250" y="57"/>
                  </a:lnTo>
                  <a:lnTo>
                    <a:pt x="2226" y="78"/>
                  </a:lnTo>
                  <a:lnTo>
                    <a:pt x="2203" y="100"/>
                  </a:lnTo>
                  <a:lnTo>
                    <a:pt x="2194" y="113"/>
                  </a:lnTo>
                  <a:lnTo>
                    <a:pt x="2185" y="125"/>
                  </a:lnTo>
                  <a:lnTo>
                    <a:pt x="2168" y="150"/>
                  </a:lnTo>
                  <a:lnTo>
                    <a:pt x="2155" y="178"/>
                  </a:lnTo>
                  <a:lnTo>
                    <a:pt x="2144" y="208"/>
                  </a:lnTo>
                  <a:lnTo>
                    <a:pt x="2135" y="240"/>
                  </a:lnTo>
                  <a:lnTo>
                    <a:pt x="2129" y="272"/>
                  </a:lnTo>
                  <a:lnTo>
                    <a:pt x="2125" y="306"/>
                  </a:lnTo>
                  <a:lnTo>
                    <a:pt x="2124" y="342"/>
                  </a:lnTo>
                  <a:lnTo>
                    <a:pt x="2125" y="379"/>
                  </a:lnTo>
                  <a:lnTo>
                    <a:pt x="2129" y="413"/>
                  </a:lnTo>
                  <a:lnTo>
                    <a:pt x="2135" y="445"/>
                  </a:lnTo>
                  <a:lnTo>
                    <a:pt x="2144" y="477"/>
                  </a:lnTo>
                  <a:lnTo>
                    <a:pt x="2155" y="506"/>
                  </a:lnTo>
                  <a:lnTo>
                    <a:pt x="2169" y="533"/>
                  </a:lnTo>
                  <a:lnTo>
                    <a:pt x="2185" y="559"/>
                  </a:lnTo>
                  <a:lnTo>
                    <a:pt x="2203" y="583"/>
                  </a:lnTo>
                  <a:lnTo>
                    <a:pt x="2226" y="606"/>
                  </a:lnTo>
                  <a:lnTo>
                    <a:pt x="2238" y="617"/>
                  </a:lnTo>
                  <a:lnTo>
                    <a:pt x="2250" y="627"/>
                  </a:lnTo>
                  <a:lnTo>
                    <a:pt x="2277" y="644"/>
                  </a:lnTo>
                  <a:lnTo>
                    <a:pt x="2304" y="658"/>
                  </a:lnTo>
                  <a:lnTo>
                    <a:pt x="2335" y="669"/>
                  </a:lnTo>
                  <a:lnTo>
                    <a:pt x="2368" y="677"/>
                  </a:lnTo>
                  <a:lnTo>
                    <a:pt x="2402" y="681"/>
                  </a:lnTo>
                  <a:lnTo>
                    <a:pt x="2439" y="683"/>
                  </a:lnTo>
                  <a:lnTo>
                    <a:pt x="2475" y="681"/>
                  </a:lnTo>
                  <a:lnTo>
                    <a:pt x="2509" y="677"/>
                  </a:lnTo>
                  <a:lnTo>
                    <a:pt x="2541" y="669"/>
                  </a:lnTo>
                  <a:lnTo>
                    <a:pt x="2572" y="658"/>
                  </a:lnTo>
                  <a:lnTo>
                    <a:pt x="2601" y="644"/>
                  </a:lnTo>
                  <a:lnTo>
                    <a:pt x="2626" y="627"/>
                  </a:lnTo>
                  <a:lnTo>
                    <a:pt x="2651" y="606"/>
                  </a:lnTo>
                  <a:lnTo>
                    <a:pt x="2673" y="583"/>
                  </a:lnTo>
                  <a:lnTo>
                    <a:pt x="2684" y="571"/>
                  </a:lnTo>
                  <a:lnTo>
                    <a:pt x="2693" y="559"/>
                  </a:lnTo>
                  <a:lnTo>
                    <a:pt x="2708" y="533"/>
                  </a:lnTo>
                  <a:lnTo>
                    <a:pt x="2722" y="506"/>
                  </a:lnTo>
                  <a:lnTo>
                    <a:pt x="2734" y="476"/>
                  </a:lnTo>
                  <a:lnTo>
                    <a:pt x="2743" y="445"/>
                  </a:lnTo>
                  <a:lnTo>
                    <a:pt x="2749" y="413"/>
                  </a:lnTo>
                  <a:lnTo>
                    <a:pt x="2752" y="379"/>
                  </a:lnTo>
                  <a:lnTo>
                    <a:pt x="2754" y="342"/>
                  </a:lnTo>
                  <a:close/>
                  <a:moveTo>
                    <a:pt x="2655" y="342"/>
                  </a:moveTo>
                  <a:lnTo>
                    <a:pt x="2654" y="370"/>
                  </a:lnTo>
                  <a:lnTo>
                    <a:pt x="2651" y="395"/>
                  </a:lnTo>
                  <a:lnTo>
                    <a:pt x="2647" y="421"/>
                  </a:lnTo>
                  <a:lnTo>
                    <a:pt x="2641" y="444"/>
                  </a:lnTo>
                  <a:lnTo>
                    <a:pt x="2632" y="466"/>
                  </a:lnTo>
                  <a:lnTo>
                    <a:pt x="2623" y="487"/>
                  </a:lnTo>
                  <a:lnTo>
                    <a:pt x="2612" y="507"/>
                  </a:lnTo>
                  <a:lnTo>
                    <a:pt x="2599" y="525"/>
                  </a:lnTo>
                  <a:lnTo>
                    <a:pt x="2583" y="543"/>
                  </a:lnTo>
                  <a:lnTo>
                    <a:pt x="2566" y="558"/>
                  </a:lnTo>
                  <a:lnTo>
                    <a:pt x="2548" y="570"/>
                  </a:lnTo>
                  <a:lnTo>
                    <a:pt x="2529" y="581"/>
                  </a:lnTo>
                  <a:lnTo>
                    <a:pt x="2508" y="589"/>
                  </a:lnTo>
                  <a:lnTo>
                    <a:pt x="2486" y="594"/>
                  </a:lnTo>
                  <a:lnTo>
                    <a:pt x="2463" y="598"/>
                  </a:lnTo>
                  <a:lnTo>
                    <a:pt x="2439" y="599"/>
                  </a:lnTo>
                  <a:lnTo>
                    <a:pt x="2414" y="598"/>
                  </a:lnTo>
                  <a:lnTo>
                    <a:pt x="2391" y="594"/>
                  </a:lnTo>
                  <a:lnTo>
                    <a:pt x="2379" y="592"/>
                  </a:lnTo>
                  <a:lnTo>
                    <a:pt x="2369" y="589"/>
                  </a:lnTo>
                  <a:lnTo>
                    <a:pt x="2348" y="581"/>
                  </a:lnTo>
                  <a:lnTo>
                    <a:pt x="2329" y="570"/>
                  </a:lnTo>
                  <a:lnTo>
                    <a:pt x="2311" y="558"/>
                  </a:lnTo>
                  <a:lnTo>
                    <a:pt x="2302" y="551"/>
                  </a:lnTo>
                  <a:lnTo>
                    <a:pt x="2294" y="543"/>
                  </a:lnTo>
                  <a:lnTo>
                    <a:pt x="2279" y="525"/>
                  </a:lnTo>
                  <a:lnTo>
                    <a:pt x="2265" y="507"/>
                  </a:lnTo>
                  <a:lnTo>
                    <a:pt x="2253" y="487"/>
                  </a:lnTo>
                  <a:lnTo>
                    <a:pt x="2244" y="466"/>
                  </a:lnTo>
                  <a:lnTo>
                    <a:pt x="2236" y="444"/>
                  </a:lnTo>
                  <a:lnTo>
                    <a:pt x="2230" y="421"/>
                  </a:lnTo>
                  <a:lnTo>
                    <a:pt x="2225" y="395"/>
                  </a:lnTo>
                  <a:lnTo>
                    <a:pt x="2222" y="370"/>
                  </a:lnTo>
                  <a:lnTo>
                    <a:pt x="2221" y="342"/>
                  </a:lnTo>
                  <a:lnTo>
                    <a:pt x="2222" y="315"/>
                  </a:lnTo>
                  <a:lnTo>
                    <a:pt x="2225" y="290"/>
                  </a:lnTo>
                  <a:lnTo>
                    <a:pt x="2230" y="265"/>
                  </a:lnTo>
                  <a:lnTo>
                    <a:pt x="2236" y="242"/>
                  </a:lnTo>
                  <a:lnTo>
                    <a:pt x="2244" y="219"/>
                  </a:lnTo>
                  <a:lnTo>
                    <a:pt x="2253" y="199"/>
                  </a:lnTo>
                  <a:lnTo>
                    <a:pt x="2265" y="178"/>
                  </a:lnTo>
                  <a:lnTo>
                    <a:pt x="2279" y="160"/>
                  </a:lnTo>
                  <a:lnTo>
                    <a:pt x="2294" y="142"/>
                  </a:lnTo>
                  <a:lnTo>
                    <a:pt x="2312" y="127"/>
                  </a:lnTo>
                  <a:lnTo>
                    <a:pt x="2329" y="115"/>
                  </a:lnTo>
                  <a:lnTo>
                    <a:pt x="2348" y="104"/>
                  </a:lnTo>
                  <a:lnTo>
                    <a:pt x="2369" y="96"/>
                  </a:lnTo>
                  <a:lnTo>
                    <a:pt x="2391" y="90"/>
                  </a:lnTo>
                  <a:lnTo>
                    <a:pt x="2414" y="87"/>
                  </a:lnTo>
                  <a:lnTo>
                    <a:pt x="2439" y="86"/>
                  </a:lnTo>
                  <a:lnTo>
                    <a:pt x="2462" y="87"/>
                  </a:lnTo>
                  <a:lnTo>
                    <a:pt x="2486" y="90"/>
                  </a:lnTo>
                  <a:lnTo>
                    <a:pt x="2507" y="96"/>
                  </a:lnTo>
                  <a:lnTo>
                    <a:pt x="2528" y="104"/>
                  </a:lnTo>
                  <a:lnTo>
                    <a:pt x="2547" y="115"/>
                  </a:lnTo>
                  <a:lnTo>
                    <a:pt x="2566" y="127"/>
                  </a:lnTo>
                  <a:lnTo>
                    <a:pt x="2582" y="142"/>
                  </a:lnTo>
                  <a:lnTo>
                    <a:pt x="2599" y="160"/>
                  </a:lnTo>
                  <a:lnTo>
                    <a:pt x="2612" y="178"/>
                  </a:lnTo>
                  <a:lnTo>
                    <a:pt x="2623" y="199"/>
                  </a:lnTo>
                  <a:lnTo>
                    <a:pt x="2632" y="219"/>
                  </a:lnTo>
                  <a:lnTo>
                    <a:pt x="2641" y="242"/>
                  </a:lnTo>
                  <a:lnTo>
                    <a:pt x="2647" y="265"/>
                  </a:lnTo>
                  <a:lnTo>
                    <a:pt x="2651" y="290"/>
                  </a:lnTo>
                  <a:lnTo>
                    <a:pt x="2654" y="315"/>
                  </a:lnTo>
                  <a:lnTo>
                    <a:pt x="2655" y="342"/>
                  </a:lnTo>
                  <a:close/>
                  <a:moveTo>
                    <a:pt x="3411" y="671"/>
                  </a:moveTo>
                  <a:lnTo>
                    <a:pt x="3411" y="14"/>
                  </a:lnTo>
                  <a:lnTo>
                    <a:pt x="3315" y="14"/>
                  </a:lnTo>
                  <a:lnTo>
                    <a:pt x="3315" y="540"/>
                  </a:lnTo>
                  <a:lnTo>
                    <a:pt x="3311" y="540"/>
                  </a:lnTo>
                  <a:lnTo>
                    <a:pt x="3025" y="14"/>
                  </a:lnTo>
                  <a:lnTo>
                    <a:pt x="2901" y="14"/>
                  </a:lnTo>
                  <a:lnTo>
                    <a:pt x="2901" y="671"/>
                  </a:lnTo>
                  <a:lnTo>
                    <a:pt x="2997" y="671"/>
                  </a:lnTo>
                  <a:lnTo>
                    <a:pt x="2997" y="144"/>
                  </a:lnTo>
                  <a:lnTo>
                    <a:pt x="2999" y="144"/>
                  </a:lnTo>
                  <a:lnTo>
                    <a:pt x="3287" y="671"/>
                  </a:lnTo>
                  <a:lnTo>
                    <a:pt x="3411" y="671"/>
                  </a:lnTo>
                  <a:close/>
                  <a:moveTo>
                    <a:pt x="4180" y="671"/>
                  </a:moveTo>
                  <a:lnTo>
                    <a:pt x="3893" y="14"/>
                  </a:lnTo>
                  <a:lnTo>
                    <a:pt x="3801" y="14"/>
                  </a:lnTo>
                  <a:lnTo>
                    <a:pt x="3516" y="671"/>
                  </a:lnTo>
                  <a:lnTo>
                    <a:pt x="3618" y="671"/>
                  </a:lnTo>
                  <a:lnTo>
                    <a:pt x="3686" y="503"/>
                  </a:lnTo>
                  <a:lnTo>
                    <a:pt x="4008" y="503"/>
                  </a:lnTo>
                  <a:lnTo>
                    <a:pt x="4077" y="671"/>
                  </a:lnTo>
                  <a:lnTo>
                    <a:pt x="4180" y="671"/>
                  </a:lnTo>
                  <a:close/>
                  <a:moveTo>
                    <a:pt x="3978" y="427"/>
                  </a:moveTo>
                  <a:lnTo>
                    <a:pt x="3717" y="427"/>
                  </a:lnTo>
                  <a:lnTo>
                    <a:pt x="3848" y="104"/>
                  </a:lnTo>
                  <a:lnTo>
                    <a:pt x="3978" y="427"/>
                  </a:lnTo>
                  <a:close/>
                  <a:moveTo>
                    <a:pt x="4650" y="671"/>
                  </a:moveTo>
                  <a:lnTo>
                    <a:pt x="4650" y="587"/>
                  </a:lnTo>
                  <a:lnTo>
                    <a:pt x="4380" y="587"/>
                  </a:lnTo>
                  <a:lnTo>
                    <a:pt x="4380" y="14"/>
                  </a:lnTo>
                  <a:lnTo>
                    <a:pt x="4285" y="14"/>
                  </a:lnTo>
                  <a:lnTo>
                    <a:pt x="4285" y="671"/>
                  </a:lnTo>
                  <a:lnTo>
                    <a:pt x="4650" y="671"/>
                  </a:lnTo>
                  <a:close/>
                  <a:moveTo>
                    <a:pt x="5160" y="671"/>
                  </a:moveTo>
                  <a:lnTo>
                    <a:pt x="5160" y="14"/>
                  </a:lnTo>
                  <a:lnTo>
                    <a:pt x="5065" y="14"/>
                  </a:lnTo>
                  <a:lnTo>
                    <a:pt x="5065" y="671"/>
                  </a:lnTo>
                  <a:lnTo>
                    <a:pt x="5160" y="671"/>
                  </a:lnTo>
                  <a:close/>
                  <a:moveTo>
                    <a:pt x="5875" y="671"/>
                  </a:moveTo>
                  <a:lnTo>
                    <a:pt x="5875" y="14"/>
                  </a:lnTo>
                  <a:lnTo>
                    <a:pt x="5779" y="14"/>
                  </a:lnTo>
                  <a:lnTo>
                    <a:pt x="5779" y="540"/>
                  </a:lnTo>
                  <a:lnTo>
                    <a:pt x="5775" y="540"/>
                  </a:lnTo>
                  <a:lnTo>
                    <a:pt x="5489" y="14"/>
                  </a:lnTo>
                  <a:lnTo>
                    <a:pt x="5364" y="14"/>
                  </a:lnTo>
                  <a:lnTo>
                    <a:pt x="5364" y="671"/>
                  </a:lnTo>
                  <a:lnTo>
                    <a:pt x="5460" y="671"/>
                  </a:lnTo>
                  <a:lnTo>
                    <a:pt x="5460" y="144"/>
                  </a:lnTo>
                  <a:lnTo>
                    <a:pt x="5463" y="144"/>
                  </a:lnTo>
                  <a:lnTo>
                    <a:pt x="5750" y="671"/>
                  </a:lnTo>
                  <a:lnTo>
                    <a:pt x="5875" y="671"/>
                  </a:lnTo>
                  <a:close/>
                  <a:moveTo>
                    <a:pt x="6423" y="494"/>
                  </a:moveTo>
                  <a:lnTo>
                    <a:pt x="6420" y="470"/>
                  </a:lnTo>
                  <a:lnTo>
                    <a:pt x="6417" y="448"/>
                  </a:lnTo>
                  <a:lnTo>
                    <a:pt x="6414" y="438"/>
                  </a:lnTo>
                  <a:lnTo>
                    <a:pt x="6411" y="428"/>
                  </a:lnTo>
                  <a:lnTo>
                    <a:pt x="6404" y="408"/>
                  </a:lnTo>
                  <a:lnTo>
                    <a:pt x="6393" y="389"/>
                  </a:lnTo>
                  <a:lnTo>
                    <a:pt x="6380" y="371"/>
                  </a:lnTo>
                  <a:lnTo>
                    <a:pt x="6365" y="353"/>
                  </a:lnTo>
                  <a:lnTo>
                    <a:pt x="6349" y="338"/>
                  </a:lnTo>
                  <a:lnTo>
                    <a:pt x="6302" y="308"/>
                  </a:lnTo>
                  <a:lnTo>
                    <a:pt x="6211" y="257"/>
                  </a:lnTo>
                  <a:lnTo>
                    <a:pt x="6194" y="247"/>
                  </a:lnTo>
                  <a:lnTo>
                    <a:pt x="6179" y="236"/>
                  </a:lnTo>
                  <a:lnTo>
                    <a:pt x="6165" y="227"/>
                  </a:lnTo>
                  <a:lnTo>
                    <a:pt x="6155" y="217"/>
                  </a:lnTo>
                  <a:lnTo>
                    <a:pt x="6147" y="207"/>
                  </a:lnTo>
                  <a:lnTo>
                    <a:pt x="6142" y="198"/>
                  </a:lnTo>
                  <a:lnTo>
                    <a:pt x="6138" y="187"/>
                  </a:lnTo>
                  <a:lnTo>
                    <a:pt x="6137" y="178"/>
                  </a:lnTo>
                  <a:lnTo>
                    <a:pt x="6139" y="160"/>
                  </a:lnTo>
                  <a:lnTo>
                    <a:pt x="6142" y="151"/>
                  </a:lnTo>
                  <a:lnTo>
                    <a:pt x="6145" y="143"/>
                  </a:lnTo>
                  <a:lnTo>
                    <a:pt x="6155" y="128"/>
                  </a:lnTo>
                  <a:lnTo>
                    <a:pt x="6168" y="113"/>
                  </a:lnTo>
                  <a:lnTo>
                    <a:pt x="6186" y="100"/>
                  </a:lnTo>
                  <a:lnTo>
                    <a:pt x="6195" y="95"/>
                  </a:lnTo>
                  <a:lnTo>
                    <a:pt x="6205" y="91"/>
                  </a:lnTo>
                  <a:lnTo>
                    <a:pt x="6227" y="85"/>
                  </a:lnTo>
                  <a:lnTo>
                    <a:pt x="6251" y="84"/>
                  </a:lnTo>
                  <a:lnTo>
                    <a:pt x="6272" y="86"/>
                  </a:lnTo>
                  <a:lnTo>
                    <a:pt x="6301" y="91"/>
                  </a:lnTo>
                  <a:lnTo>
                    <a:pt x="6382" y="115"/>
                  </a:lnTo>
                  <a:lnTo>
                    <a:pt x="6398" y="23"/>
                  </a:lnTo>
                  <a:lnTo>
                    <a:pt x="6361" y="13"/>
                  </a:lnTo>
                  <a:lnTo>
                    <a:pt x="6324" y="6"/>
                  </a:lnTo>
                  <a:lnTo>
                    <a:pt x="6287" y="1"/>
                  </a:lnTo>
                  <a:lnTo>
                    <a:pt x="6251" y="0"/>
                  </a:lnTo>
                  <a:lnTo>
                    <a:pt x="6211" y="2"/>
                  </a:lnTo>
                  <a:lnTo>
                    <a:pt x="6192" y="6"/>
                  </a:lnTo>
                  <a:lnTo>
                    <a:pt x="6174" y="10"/>
                  </a:lnTo>
                  <a:lnTo>
                    <a:pt x="6140" y="23"/>
                  </a:lnTo>
                  <a:lnTo>
                    <a:pt x="6123" y="33"/>
                  </a:lnTo>
                  <a:lnTo>
                    <a:pt x="6108" y="43"/>
                  </a:lnTo>
                  <a:lnTo>
                    <a:pt x="6092" y="56"/>
                  </a:lnTo>
                  <a:lnTo>
                    <a:pt x="6077" y="71"/>
                  </a:lnTo>
                  <a:lnTo>
                    <a:pt x="6065" y="85"/>
                  </a:lnTo>
                  <a:lnTo>
                    <a:pt x="6060" y="93"/>
                  </a:lnTo>
                  <a:lnTo>
                    <a:pt x="6056" y="101"/>
                  </a:lnTo>
                  <a:lnTo>
                    <a:pt x="6049" y="119"/>
                  </a:lnTo>
                  <a:lnTo>
                    <a:pt x="6042" y="138"/>
                  </a:lnTo>
                  <a:lnTo>
                    <a:pt x="6039" y="158"/>
                  </a:lnTo>
                  <a:lnTo>
                    <a:pt x="6038" y="178"/>
                  </a:lnTo>
                  <a:lnTo>
                    <a:pt x="6040" y="202"/>
                  </a:lnTo>
                  <a:lnTo>
                    <a:pt x="6046" y="224"/>
                  </a:lnTo>
                  <a:lnTo>
                    <a:pt x="6056" y="246"/>
                  </a:lnTo>
                  <a:lnTo>
                    <a:pt x="6070" y="267"/>
                  </a:lnTo>
                  <a:lnTo>
                    <a:pt x="6087" y="287"/>
                  </a:lnTo>
                  <a:lnTo>
                    <a:pt x="6109" y="306"/>
                  </a:lnTo>
                  <a:lnTo>
                    <a:pt x="6134" y="325"/>
                  </a:lnTo>
                  <a:lnTo>
                    <a:pt x="6163" y="341"/>
                  </a:lnTo>
                  <a:lnTo>
                    <a:pt x="6198" y="360"/>
                  </a:lnTo>
                  <a:lnTo>
                    <a:pt x="6232" y="377"/>
                  </a:lnTo>
                  <a:lnTo>
                    <a:pt x="6252" y="389"/>
                  </a:lnTo>
                  <a:lnTo>
                    <a:pt x="6270" y="400"/>
                  </a:lnTo>
                  <a:lnTo>
                    <a:pt x="6284" y="412"/>
                  </a:lnTo>
                  <a:lnTo>
                    <a:pt x="6295" y="424"/>
                  </a:lnTo>
                  <a:lnTo>
                    <a:pt x="6302" y="431"/>
                  </a:lnTo>
                  <a:lnTo>
                    <a:pt x="6308" y="439"/>
                  </a:lnTo>
                  <a:lnTo>
                    <a:pt x="6317" y="457"/>
                  </a:lnTo>
                  <a:lnTo>
                    <a:pt x="6322" y="474"/>
                  </a:lnTo>
                  <a:lnTo>
                    <a:pt x="6324" y="494"/>
                  </a:lnTo>
                  <a:lnTo>
                    <a:pt x="6321" y="515"/>
                  </a:lnTo>
                  <a:lnTo>
                    <a:pt x="6314" y="535"/>
                  </a:lnTo>
                  <a:lnTo>
                    <a:pt x="6302" y="553"/>
                  </a:lnTo>
                  <a:lnTo>
                    <a:pt x="6293" y="561"/>
                  </a:lnTo>
                  <a:lnTo>
                    <a:pt x="6284" y="568"/>
                  </a:lnTo>
                  <a:lnTo>
                    <a:pt x="6263" y="582"/>
                  </a:lnTo>
                  <a:lnTo>
                    <a:pt x="6251" y="587"/>
                  </a:lnTo>
                  <a:lnTo>
                    <a:pt x="6239" y="591"/>
                  </a:lnTo>
                  <a:lnTo>
                    <a:pt x="6211" y="597"/>
                  </a:lnTo>
                  <a:lnTo>
                    <a:pt x="6182" y="599"/>
                  </a:lnTo>
                  <a:lnTo>
                    <a:pt x="6149" y="597"/>
                  </a:lnTo>
                  <a:lnTo>
                    <a:pt x="6117" y="591"/>
                  </a:lnTo>
                  <a:lnTo>
                    <a:pt x="6087" y="581"/>
                  </a:lnTo>
                  <a:lnTo>
                    <a:pt x="6060" y="566"/>
                  </a:lnTo>
                  <a:lnTo>
                    <a:pt x="6046" y="656"/>
                  </a:lnTo>
                  <a:lnTo>
                    <a:pt x="6088" y="671"/>
                  </a:lnTo>
                  <a:lnTo>
                    <a:pt x="6116" y="678"/>
                  </a:lnTo>
                  <a:lnTo>
                    <a:pt x="6128" y="680"/>
                  </a:lnTo>
                  <a:lnTo>
                    <a:pt x="6144" y="682"/>
                  </a:lnTo>
                  <a:lnTo>
                    <a:pt x="6182" y="683"/>
                  </a:lnTo>
                  <a:lnTo>
                    <a:pt x="6228" y="680"/>
                  </a:lnTo>
                  <a:lnTo>
                    <a:pt x="6249" y="677"/>
                  </a:lnTo>
                  <a:lnTo>
                    <a:pt x="6270" y="673"/>
                  </a:lnTo>
                  <a:lnTo>
                    <a:pt x="6289" y="667"/>
                  </a:lnTo>
                  <a:lnTo>
                    <a:pt x="6308" y="659"/>
                  </a:lnTo>
                  <a:lnTo>
                    <a:pt x="6325" y="651"/>
                  </a:lnTo>
                  <a:lnTo>
                    <a:pt x="6342" y="641"/>
                  </a:lnTo>
                  <a:lnTo>
                    <a:pt x="6361" y="628"/>
                  </a:lnTo>
                  <a:lnTo>
                    <a:pt x="6377" y="612"/>
                  </a:lnTo>
                  <a:lnTo>
                    <a:pt x="6391" y="596"/>
                  </a:lnTo>
                  <a:lnTo>
                    <a:pt x="6402" y="579"/>
                  </a:lnTo>
                  <a:lnTo>
                    <a:pt x="6411" y="559"/>
                  </a:lnTo>
                  <a:lnTo>
                    <a:pt x="6417" y="539"/>
                  </a:lnTo>
                  <a:lnTo>
                    <a:pt x="6420" y="517"/>
                  </a:lnTo>
                  <a:lnTo>
                    <a:pt x="6423" y="494"/>
                  </a:lnTo>
                  <a:close/>
                  <a:moveTo>
                    <a:pt x="7013" y="96"/>
                  </a:moveTo>
                  <a:lnTo>
                    <a:pt x="7013" y="14"/>
                  </a:lnTo>
                  <a:lnTo>
                    <a:pt x="6516" y="14"/>
                  </a:lnTo>
                  <a:lnTo>
                    <a:pt x="6516" y="96"/>
                  </a:lnTo>
                  <a:lnTo>
                    <a:pt x="6716" y="96"/>
                  </a:lnTo>
                  <a:lnTo>
                    <a:pt x="6716" y="671"/>
                  </a:lnTo>
                  <a:lnTo>
                    <a:pt x="6812" y="671"/>
                  </a:lnTo>
                  <a:lnTo>
                    <a:pt x="6812" y="96"/>
                  </a:lnTo>
                  <a:lnTo>
                    <a:pt x="7013" y="96"/>
                  </a:lnTo>
                  <a:close/>
                  <a:moveTo>
                    <a:pt x="7238" y="671"/>
                  </a:moveTo>
                  <a:lnTo>
                    <a:pt x="7238" y="14"/>
                  </a:lnTo>
                  <a:lnTo>
                    <a:pt x="7143" y="14"/>
                  </a:lnTo>
                  <a:lnTo>
                    <a:pt x="7143" y="671"/>
                  </a:lnTo>
                  <a:lnTo>
                    <a:pt x="7238" y="671"/>
                  </a:lnTo>
                  <a:close/>
                  <a:moveTo>
                    <a:pt x="7867" y="96"/>
                  </a:moveTo>
                  <a:lnTo>
                    <a:pt x="7867" y="14"/>
                  </a:lnTo>
                  <a:lnTo>
                    <a:pt x="7370" y="14"/>
                  </a:lnTo>
                  <a:lnTo>
                    <a:pt x="7370" y="96"/>
                  </a:lnTo>
                  <a:lnTo>
                    <a:pt x="7570" y="96"/>
                  </a:lnTo>
                  <a:lnTo>
                    <a:pt x="7570" y="671"/>
                  </a:lnTo>
                  <a:lnTo>
                    <a:pt x="7666" y="671"/>
                  </a:lnTo>
                  <a:lnTo>
                    <a:pt x="7666" y="96"/>
                  </a:lnTo>
                  <a:lnTo>
                    <a:pt x="7867" y="96"/>
                  </a:lnTo>
                  <a:close/>
                  <a:moveTo>
                    <a:pt x="8512" y="398"/>
                  </a:moveTo>
                  <a:lnTo>
                    <a:pt x="8512" y="14"/>
                  </a:lnTo>
                  <a:lnTo>
                    <a:pt x="8415" y="14"/>
                  </a:lnTo>
                  <a:lnTo>
                    <a:pt x="8415" y="414"/>
                  </a:lnTo>
                  <a:lnTo>
                    <a:pt x="8412" y="454"/>
                  </a:lnTo>
                  <a:lnTo>
                    <a:pt x="8405" y="488"/>
                  </a:lnTo>
                  <a:lnTo>
                    <a:pt x="8400" y="504"/>
                  </a:lnTo>
                  <a:lnTo>
                    <a:pt x="8393" y="519"/>
                  </a:lnTo>
                  <a:lnTo>
                    <a:pt x="8386" y="533"/>
                  </a:lnTo>
                  <a:lnTo>
                    <a:pt x="8377" y="546"/>
                  </a:lnTo>
                  <a:lnTo>
                    <a:pt x="8365" y="559"/>
                  </a:lnTo>
                  <a:lnTo>
                    <a:pt x="8353" y="569"/>
                  </a:lnTo>
                  <a:lnTo>
                    <a:pt x="8340" y="579"/>
                  </a:lnTo>
                  <a:lnTo>
                    <a:pt x="8325" y="586"/>
                  </a:lnTo>
                  <a:lnTo>
                    <a:pt x="8294" y="596"/>
                  </a:lnTo>
                  <a:lnTo>
                    <a:pt x="8275" y="598"/>
                  </a:lnTo>
                  <a:lnTo>
                    <a:pt x="8257" y="599"/>
                  </a:lnTo>
                  <a:lnTo>
                    <a:pt x="8220" y="596"/>
                  </a:lnTo>
                  <a:lnTo>
                    <a:pt x="8203" y="592"/>
                  </a:lnTo>
                  <a:lnTo>
                    <a:pt x="8188" y="586"/>
                  </a:lnTo>
                  <a:lnTo>
                    <a:pt x="8174" y="579"/>
                  </a:lnTo>
                  <a:lnTo>
                    <a:pt x="8160" y="569"/>
                  </a:lnTo>
                  <a:lnTo>
                    <a:pt x="8148" y="558"/>
                  </a:lnTo>
                  <a:lnTo>
                    <a:pt x="8137" y="546"/>
                  </a:lnTo>
                  <a:lnTo>
                    <a:pt x="8119" y="519"/>
                  </a:lnTo>
                  <a:lnTo>
                    <a:pt x="8112" y="504"/>
                  </a:lnTo>
                  <a:lnTo>
                    <a:pt x="8107" y="488"/>
                  </a:lnTo>
                  <a:lnTo>
                    <a:pt x="8102" y="471"/>
                  </a:lnTo>
                  <a:lnTo>
                    <a:pt x="8099" y="454"/>
                  </a:lnTo>
                  <a:lnTo>
                    <a:pt x="8098" y="434"/>
                  </a:lnTo>
                  <a:lnTo>
                    <a:pt x="8097" y="414"/>
                  </a:lnTo>
                  <a:lnTo>
                    <a:pt x="8097" y="14"/>
                  </a:lnTo>
                  <a:lnTo>
                    <a:pt x="8001" y="14"/>
                  </a:lnTo>
                  <a:lnTo>
                    <a:pt x="8001" y="398"/>
                  </a:lnTo>
                  <a:lnTo>
                    <a:pt x="8003" y="427"/>
                  </a:lnTo>
                  <a:lnTo>
                    <a:pt x="8005" y="456"/>
                  </a:lnTo>
                  <a:lnTo>
                    <a:pt x="8010" y="482"/>
                  </a:lnTo>
                  <a:lnTo>
                    <a:pt x="8016" y="508"/>
                  </a:lnTo>
                  <a:lnTo>
                    <a:pt x="8023" y="531"/>
                  </a:lnTo>
                  <a:lnTo>
                    <a:pt x="8033" y="554"/>
                  </a:lnTo>
                  <a:lnTo>
                    <a:pt x="8045" y="574"/>
                  </a:lnTo>
                  <a:lnTo>
                    <a:pt x="8057" y="594"/>
                  </a:lnTo>
                  <a:lnTo>
                    <a:pt x="8074" y="615"/>
                  </a:lnTo>
                  <a:lnTo>
                    <a:pt x="8095" y="633"/>
                  </a:lnTo>
                  <a:lnTo>
                    <a:pt x="8116" y="648"/>
                  </a:lnTo>
                  <a:lnTo>
                    <a:pt x="8129" y="655"/>
                  </a:lnTo>
                  <a:lnTo>
                    <a:pt x="8141" y="660"/>
                  </a:lnTo>
                  <a:lnTo>
                    <a:pt x="8166" y="671"/>
                  </a:lnTo>
                  <a:lnTo>
                    <a:pt x="8194" y="678"/>
                  </a:lnTo>
                  <a:lnTo>
                    <a:pt x="8224" y="682"/>
                  </a:lnTo>
                  <a:lnTo>
                    <a:pt x="8257" y="683"/>
                  </a:lnTo>
                  <a:lnTo>
                    <a:pt x="8288" y="682"/>
                  </a:lnTo>
                  <a:lnTo>
                    <a:pt x="8318" y="678"/>
                  </a:lnTo>
                  <a:lnTo>
                    <a:pt x="8346" y="671"/>
                  </a:lnTo>
                  <a:lnTo>
                    <a:pt x="8372" y="660"/>
                  </a:lnTo>
                  <a:lnTo>
                    <a:pt x="8396" y="648"/>
                  </a:lnTo>
                  <a:lnTo>
                    <a:pt x="8407" y="641"/>
                  </a:lnTo>
                  <a:lnTo>
                    <a:pt x="8417" y="633"/>
                  </a:lnTo>
                  <a:lnTo>
                    <a:pt x="8428" y="625"/>
                  </a:lnTo>
                  <a:lnTo>
                    <a:pt x="8438" y="615"/>
                  </a:lnTo>
                  <a:lnTo>
                    <a:pt x="8455" y="594"/>
                  </a:lnTo>
                  <a:lnTo>
                    <a:pt x="8469" y="574"/>
                  </a:lnTo>
                  <a:lnTo>
                    <a:pt x="8480" y="554"/>
                  </a:lnTo>
                  <a:lnTo>
                    <a:pt x="8490" y="531"/>
                  </a:lnTo>
                  <a:lnTo>
                    <a:pt x="8498" y="508"/>
                  </a:lnTo>
                  <a:lnTo>
                    <a:pt x="8505" y="482"/>
                  </a:lnTo>
                  <a:lnTo>
                    <a:pt x="8509" y="456"/>
                  </a:lnTo>
                  <a:lnTo>
                    <a:pt x="8512" y="427"/>
                  </a:lnTo>
                  <a:lnTo>
                    <a:pt x="8512" y="398"/>
                  </a:lnTo>
                  <a:close/>
                  <a:moveTo>
                    <a:pt x="9143" y="96"/>
                  </a:moveTo>
                  <a:lnTo>
                    <a:pt x="9143" y="14"/>
                  </a:lnTo>
                  <a:lnTo>
                    <a:pt x="8646" y="14"/>
                  </a:lnTo>
                  <a:lnTo>
                    <a:pt x="8646" y="96"/>
                  </a:lnTo>
                  <a:lnTo>
                    <a:pt x="8847" y="96"/>
                  </a:lnTo>
                  <a:lnTo>
                    <a:pt x="8847" y="671"/>
                  </a:lnTo>
                  <a:lnTo>
                    <a:pt x="8943" y="671"/>
                  </a:lnTo>
                  <a:lnTo>
                    <a:pt x="8943" y="96"/>
                  </a:lnTo>
                  <a:lnTo>
                    <a:pt x="9143" y="96"/>
                  </a:lnTo>
                  <a:close/>
                  <a:moveTo>
                    <a:pt x="9651" y="96"/>
                  </a:moveTo>
                  <a:lnTo>
                    <a:pt x="9651" y="14"/>
                  </a:lnTo>
                  <a:lnTo>
                    <a:pt x="9281" y="14"/>
                  </a:lnTo>
                  <a:lnTo>
                    <a:pt x="9281" y="671"/>
                  </a:lnTo>
                  <a:lnTo>
                    <a:pt x="9649" y="671"/>
                  </a:lnTo>
                  <a:lnTo>
                    <a:pt x="9649" y="587"/>
                  </a:lnTo>
                  <a:lnTo>
                    <a:pt x="9377" y="587"/>
                  </a:lnTo>
                  <a:lnTo>
                    <a:pt x="9377" y="371"/>
                  </a:lnTo>
                  <a:lnTo>
                    <a:pt x="9627" y="371"/>
                  </a:lnTo>
                  <a:lnTo>
                    <a:pt x="9627" y="287"/>
                  </a:lnTo>
                  <a:lnTo>
                    <a:pt x="9377" y="287"/>
                  </a:lnTo>
                  <a:lnTo>
                    <a:pt x="9377" y="96"/>
                  </a:lnTo>
                  <a:lnTo>
                    <a:pt x="9651" y="9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241280" y="3645000"/>
            <a:ext cx="6661440" cy="198360"/>
            <a:chOff x="1241280" y="3645000"/>
            <a:chExt cx="6661440" cy="198360"/>
          </a:xfrm>
        </p:grpSpPr>
        <p:sp>
          <p:nvSpPr>
            <p:cNvPr id="92" name=""/>
            <p:cNvSpPr/>
            <p:nvPr/>
          </p:nvSpPr>
          <p:spPr>
            <a:xfrm>
              <a:off x="4195800" y="3645000"/>
              <a:ext cx="3706920" cy="198360"/>
            </a:xfrm>
            <a:custGeom>
              <a:avLst/>
              <a:gdLst/>
              <a:ahLst/>
              <a:rect l="l" t="t" r="r" b="b"/>
              <a:pathLst>
                <a:path w="2476" h="133">
                  <a:moveTo>
                    <a:pt x="72" y="18"/>
                  </a:moveTo>
                  <a:lnTo>
                    <a:pt x="72" y="2"/>
                  </a:lnTo>
                  <a:lnTo>
                    <a:pt x="0" y="2"/>
                  </a:lnTo>
                  <a:lnTo>
                    <a:pt x="0" y="130"/>
                  </a:lnTo>
                  <a:lnTo>
                    <a:pt x="18" y="130"/>
                  </a:lnTo>
                  <a:lnTo>
                    <a:pt x="18" y="72"/>
                  </a:lnTo>
                  <a:lnTo>
                    <a:pt x="67" y="72"/>
                  </a:lnTo>
                  <a:lnTo>
                    <a:pt x="67" y="55"/>
                  </a:lnTo>
                  <a:lnTo>
                    <a:pt x="18" y="55"/>
                  </a:lnTo>
                  <a:lnTo>
                    <a:pt x="18" y="18"/>
                  </a:lnTo>
                  <a:lnTo>
                    <a:pt x="72" y="18"/>
                  </a:lnTo>
                  <a:close/>
                  <a:moveTo>
                    <a:pt x="215" y="66"/>
                  </a:moveTo>
                  <a:lnTo>
                    <a:pt x="215" y="59"/>
                  </a:lnTo>
                  <a:lnTo>
                    <a:pt x="214" y="52"/>
                  </a:lnTo>
                  <a:lnTo>
                    <a:pt x="213" y="46"/>
                  </a:lnTo>
                  <a:lnTo>
                    <a:pt x="211" y="40"/>
                  </a:lnTo>
                  <a:lnTo>
                    <a:pt x="209" y="34"/>
                  </a:lnTo>
                  <a:lnTo>
                    <a:pt x="206" y="29"/>
                  </a:lnTo>
                  <a:lnTo>
                    <a:pt x="203" y="24"/>
                  </a:lnTo>
                  <a:lnTo>
                    <a:pt x="199" y="19"/>
                  </a:lnTo>
                  <a:lnTo>
                    <a:pt x="195" y="14"/>
                  </a:lnTo>
                  <a:lnTo>
                    <a:pt x="190" y="11"/>
                  </a:lnTo>
                  <a:lnTo>
                    <a:pt x="185" y="7"/>
                  </a:lnTo>
                  <a:lnTo>
                    <a:pt x="179" y="5"/>
                  </a:lnTo>
                  <a:lnTo>
                    <a:pt x="173" y="2"/>
                  </a:lnTo>
                  <a:lnTo>
                    <a:pt x="167" y="1"/>
                  </a:lnTo>
                  <a:lnTo>
                    <a:pt x="160" y="0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133" y="2"/>
                  </a:lnTo>
                  <a:lnTo>
                    <a:pt x="127" y="5"/>
                  </a:lnTo>
                  <a:lnTo>
                    <a:pt x="122" y="7"/>
                  </a:lnTo>
                  <a:lnTo>
                    <a:pt x="117" y="11"/>
                  </a:lnTo>
                  <a:lnTo>
                    <a:pt x="112" y="14"/>
                  </a:lnTo>
                  <a:lnTo>
                    <a:pt x="107" y="19"/>
                  </a:lnTo>
                  <a:lnTo>
                    <a:pt x="104" y="24"/>
                  </a:lnTo>
                  <a:lnTo>
                    <a:pt x="101" y="29"/>
                  </a:lnTo>
                  <a:lnTo>
                    <a:pt x="98" y="34"/>
                  </a:lnTo>
                  <a:lnTo>
                    <a:pt x="96" y="40"/>
                  </a:lnTo>
                  <a:lnTo>
                    <a:pt x="94" y="46"/>
                  </a:lnTo>
                  <a:lnTo>
                    <a:pt x="93" y="52"/>
                  </a:lnTo>
                  <a:lnTo>
                    <a:pt x="92" y="59"/>
                  </a:lnTo>
                  <a:lnTo>
                    <a:pt x="92" y="66"/>
                  </a:lnTo>
                  <a:lnTo>
                    <a:pt x="92" y="73"/>
                  </a:lnTo>
                  <a:lnTo>
                    <a:pt x="93" y="80"/>
                  </a:lnTo>
                  <a:lnTo>
                    <a:pt x="94" y="86"/>
                  </a:lnTo>
                  <a:lnTo>
                    <a:pt x="96" y="92"/>
                  </a:lnTo>
                  <a:lnTo>
                    <a:pt x="98" y="98"/>
                  </a:lnTo>
                  <a:lnTo>
                    <a:pt x="101" y="104"/>
                  </a:lnTo>
                  <a:lnTo>
                    <a:pt x="104" y="109"/>
                  </a:lnTo>
                  <a:lnTo>
                    <a:pt x="107" y="113"/>
                  </a:lnTo>
                  <a:lnTo>
                    <a:pt x="112" y="118"/>
                  </a:lnTo>
                  <a:lnTo>
                    <a:pt x="117" y="122"/>
                  </a:lnTo>
                  <a:lnTo>
                    <a:pt x="122" y="125"/>
                  </a:lnTo>
                  <a:lnTo>
                    <a:pt x="127" y="128"/>
                  </a:lnTo>
                  <a:lnTo>
                    <a:pt x="133" y="130"/>
                  </a:lnTo>
                  <a:lnTo>
                    <a:pt x="139" y="132"/>
                  </a:lnTo>
                  <a:lnTo>
                    <a:pt x="146" y="132"/>
                  </a:lnTo>
                  <a:lnTo>
                    <a:pt x="153" y="133"/>
                  </a:lnTo>
                  <a:lnTo>
                    <a:pt x="160" y="132"/>
                  </a:lnTo>
                  <a:lnTo>
                    <a:pt x="167" y="132"/>
                  </a:lnTo>
                  <a:lnTo>
                    <a:pt x="173" y="130"/>
                  </a:lnTo>
                  <a:lnTo>
                    <a:pt x="179" y="128"/>
                  </a:lnTo>
                  <a:lnTo>
                    <a:pt x="185" y="125"/>
                  </a:lnTo>
                  <a:lnTo>
                    <a:pt x="190" y="122"/>
                  </a:lnTo>
                  <a:lnTo>
                    <a:pt x="195" y="118"/>
                  </a:lnTo>
                  <a:lnTo>
                    <a:pt x="199" y="113"/>
                  </a:lnTo>
                  <a:lnTo>
                    <a:pt x="203" y="109"/>
                  </a:lnTo>
                  <a:lnTo>
                    <a:pt x="206" y="103"/>
                  </a:lnTo>
                  <a:lnTo>
                    <a:pt x="209" y="98"/>
                  </a:lnTo>
                  <a:lnTo>
                    <a:pt x="211" y="92"/>
                  </a:lnTo>
                  <a:lnTo>
                    <a:pt x="213" y="86"/>
                  </a:lnTo>
                  <a:lnTo>
                    <a:pt x="214" y="80"/>
                  </a:lnTo>
                  <a:lnTo>
                    <a:pt x="215" y="73"/>
                  </a:lnTo>
                  <a:lnTo>
                    <a:pt x="215" y="66"/>
                  </a:lnTo>
                  <a:close/>
                  <a:moveTo>
                    <a:pt x="196" y="66"/>
                  </a:moveTo>
                  <a:lnTo>
                    <a:pt x="195" y="72"/>
                  </a:lnTo>
                  <a:lnTo>
                    <a:pt x="195" y="77"/>
                  </a:lnTo>
                  <a:lnTo>
                    <a:pt x="193" y="86"/>
                  </a:lnTo>
                  <a:lnTo>
                    <a:pt x="191" y="90"/>
                  </a:lnTo>
                  <a:lnTo>
                    <a:pt x="189" y="95"/>
                  </a:lnTo>
                  <a:lnTo>
                    <a:pt x="184" y="102"/>
                  </a:lnTo>
                  <a:lnTo>
                    <a:pt x="181" y="105"/>
                  </a:lnTo>
                  <a:lnTo>
                    <a:pt x="178" y="108"/>
                  </a:lnTo>
                  <a:lnTo>
                    <a:pt x="175" y="111"/>
                  </a:lnTo>
                  <a:lnTo>
                    <a:pt x="171" y="113"/>
                  </a:lnTo>
                  <a:lnTo>
                    <a:pt x="167" y="114"/>
                  </a:lnTo>
                  <a:lnTo>
                    <a:pt x="163" y="115"/>
                  </a:lnTo>
                  <a:lnTo>
                    <a:pt x="158" y="116"/>
                  </a:lnTo>
                  <a:lnTo>
                    <a:pt x="153" y="116"/>
                  </a:lnTo>
                  <a:lnTo>
                    <a:pt x="149" y="116"/>
                  </a:lnTo>
                  <a:lnTo>
                    <a:pt x="144" y="115"/>
                  </a:lnTo>
                  <a:lnTo>
                    <a:pt x="140" y="114"/>
                  </a:lnTo>
                  <a:lnTo>
                    <a:pt x="136" y="113"/>
                  </a:lnTo>
                  <a:lnTo>
                    <a:pt x="132" y="111"/>
                  </a:lnTo>
                  <a:lnTo>
                    <a:pt x="128" y="108"/>
                  </a:lnTo>
                  <a:lnTo>
                    <a:pt x="125" y="105"/>
                  </a:lnTo>
                  <a:lnTo>
                    <a:pt x="122" y="102"/>
                  </a:lnTo>
                  <a:lnTo>
                    <a:pt x="120" y="98"/>
                  </a:lnTo>
                  <a:lnTo>
                    <a:pt x="117" y="95"/>
                  </a:lnTo>
                  <a:lnTo>
                    <a:pt x="115" y="90"/>
                  </a:lnTo>
                  <a:lnTo>
                    <a:pt x="114" y="86"/>
                  </a:lnTo>
                  <a:lnTo>
                    <a:pt x="112" y="81"/>
                  </a:lnTo>
                  <a:lnTo>
                    <a:pt x="112" y="77"/>
                  </a:lnTo>
                  <a:lnTo>
                    <a:pt x="111" y="72"/>
                  </a:lnTo>
                  <a:lnTo>
                    <a:pt x="111" y="66"/>
                  </a:lnTo>
                  <a:lnTo>
                    <a:pt x="111" y="61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5" y="42"/>
                  </a:lnTo>
                  <a:lnTo>
                    <a:pt x="117" y="38"/>
                  </a:lnTo>
                  <a:lnTo>
                    <a:pt x="122" y="31"/>
                  </a:lnTo>
                  <a:lnTo>
                    <a:pt x="125" y="27"/>
                  </a:lnTo>
                  <a:lnTo>
                    <a:pt x="128" y="24"/>
                  </a:lnTo>
                  <a:lnTo>
                    <a:pt x="132" y="22"/>
                  </a:lnTo>
                  <a:lnTo>
                    <a:pt x="136" y="20"/>
                  </a:lnTo>
                  <a:lnTo>
                    <a:pt x="140" y="18"/>
                  </a:lnTo>
                  <a:lnTo>
                    <a:pt x="144" y="17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8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71" y="20"/>
                  </a:lnTo>
                  <a:lnTo>
                    <a:pt x="175" y="22"/>
                  </a:lnTo>
                  <a:lnTo>
                    <a:pt x="178" y="24"/>
                  </a:lnTo>
                  <a:lnTo>
                    <a:pt x="181" y="27"/>
                  </a:lnTo>
                  <a:lnTo>
                    <a:pt x="184" y="31"/>
                  </a:lnTo>
                  <a:lnTo>
                    <a:pt x="187" y="34"/>
                  </a:lnTo>
                  <a:lnTo>
                    <a:pt x="189" y="38"/>
                  </a:lnTo>
                  <a:lnTo>
                    <a:pt x="191" y="42"/>
                  </a:lnTo>
                  <a:lnTo>
                    <a:pt x="193" y="46"/>
                  </a:lnTo>
                  <a:lnTo>
                    <a:pt x="194" y="51"/>
                  </a:lnTo>
                  <a:lnTo>
                    <a:pt x="195" y="56"/>
                  </a:lnTo>
                  <a:lnTo>
                    <a:pt x="195" y="61"/>
                  </a:lnTo>
                  <a:lnTo>
                    <a:pt x="196" y="66"/>
                  </a:lnTo>
                  <a:close/>
                  <a:moveTo>
                    <a:pt x="336" y="130"/>
                  </a:moveTo>
                  <a:lnTo>
                    <a:pt x="336" y="114"/>
                  </a:lnTo>
                  <a:lnTo>
                    <a:pt x="332" y="114"/>
                  </a:lnTo>
                  <a:lnTo>
                    <a:pt x="330" y="114"/>
                  </a:lnTo>
                  <a:lnTo>
                    <a:pt x="329" y="113"/>
                  </a:lnTo>
                  <a:lnTo>
                    <a:pt x="327" y="112"/>
                  </a:lnTo>
                  <a:lnTo>
                    <a:pt x="325" y="110"/>
                  </a:lnTo>
                  <a:lnTo>
                    <a:pt x="321" y="104"/>
                  </a:lnTo>
                  <a:lnTo>
                    <a:pt x="317" y="97"/>
                  </a:lnTo>
                  <a:lnTo>
                    <a:pt x="312" y="87"/>
                  </a:lnTo>
                  <a:lnTo>
                    <a:pt x="308" y="78"/>
                  </a:lnTo>
                  <a:lnTo>
                    <a:pt x="304" y="72"/>
                  </a:lnTo>
                  <a:lnTo>
                    <a:pt x="300" y="67"/>
                  </a:lnTo>
                  <a:lnTo>
                    <a:pt x="306" y="64"/>
                  </a:lnTo>
                  <a:lnTo>
                    <a:pt x="311" y="61"/>
                  </a:lnTo>
                  <a:lnTo>
                    <a:pt x="315" y="58"/>
                  </a:lnTo>
                  <a:lnTo>
                    <a:pt x="319" y="54"/>
                  </a:lnTo>
                  <a:lnTo>
                    <a:pt x="322" y="50"/>
                  </a:lnTo>
                  <a:lnTo>
                    <a:pt x="324" y="45"/>
                  </a:lnTo>
                  <a:lnTo>
                    <a:pt x="325" y="40"/>
                  </a:lnTo>
                  <a:lnTo>
                    <a:pt x="325" y="35"/>
                  </a:lnTo>
                  <a:lnTo>
                    <a:pt x="325" y="32"/>
                  </a:lnTo>
                  <a:lnTo>
                    <a:pt x="324" y="28"/>
                  </a:lnTo>
                  <a:lnTo>
                    <a:pt x="322" y="22"/>
                  </a:lnTo>
                  <a:lnTo>
                    <a:pt x="321" y="19"/>
                  </a:lnTo>
                  <a:lnTo>
                    <a:pt x="319" y="16"/>
                  </a:lnTo>
                  <a:lnTo>
                    <a:pt x="317" y="13"/>
                  </a:lnTo>
                  <a:lnTo>
                    <a:pt x="314" y="11"/>
                  </a:lnTo>
                  <a:lnTo>
                    <a:pt x="308" y="7"/>
                  </a:lnTo>
                  <a:lnTo>
                    <a:pt x="305" y="6"/>
                  </a:lnTo>
                  <a:lnTo>
                    <a:pt x="301" y="4"/>
                  </a:lnTo>
                  <a:lnTo>
                    <a:pt x="294" y="3"/>
                  </a:lnTo>
                  <a:lnTo>
                    <a:pt x="286" y="2"/>
                  </a:lnTo>
                  <a:lnTo>
                    <a:pt x="242" y="2"/>
                  </a:lnTo>
                  <a:lnTo>
                    <a:pt x="242" y="130"/>
                  </a:lnTo>
                  <a:lnTo>
                    <a:pt x="262" y="130"/>
                  </a:lnTo>
                  <a:lnTo>
                    <a:pt x="262" y="74"/>
                  </a:lnTo>
                  <a:lnTo>
                    <a:pt x="276" y="74"/>
                  </a:lnTo>
                  <a:lnTo>
                    <a:pt x="278" y="74"/>
                  </a:lnTo>
                  <a:lnTo>
                    <a:pt x="281" y="75"/>
                  </a:lnTo>
                  <a:lnTo>
                    <a:pt x="283" y="76"/>
                  </a:lnTo>
                  <a:lnTo>
                    <a:pt x="285" y="77"/>
                  </a:lnTo>
                  <a:lnTo>
                    <a:pt x="289" y="82"/>
                  </a:lnTo>
                  <a:lnTo>
                    <a:pt x="293" y="88"/>
                  </a:lnTo>
                  <a:lnTo>
                    <a:pt x="307" y="116"/>
                  </a:lnTo>
                  <a:lnTo>
                    <a:pt x="309" y="119"/>
                  </a:lnTo>
                  <a:lnTo>
                    <a:pt x="312" y="122"/>
                  </a:lnTo>
                  <a:lnTo>
                    <a:pt x="315" y="125"/>
                  </a:lnTo>
                  <a:lnTo>
                    <a:pt x="318" y="127"/>
                  </a:lnTo>
                  <a:lnTo>
                    <a:pt x="321" y="128"/>
                  </a:lnTo>
                  <a:lnTo>
                    <a:pt x="324" y="129"/>
                  </a:lnTo>
                  <a:lnTo>
                    <a:pt x="328" y="130"/>
                  </a:lnTo>
                  <a:lnTo>
                    <a:pt x="332" y="130"/>
                  </a:lnTo>
                  <a:lnTo>
                    <a:pt x="336" y="130"/>
                  </a:lnTo>
                  <a:close/>
                  <a:moveTo>
                    <a:pt x="305" y="35"/>
                  </a:moveTo>
                  <a:lnTo>
                    <a:pt x="305" y="40"/>
                  </a:lnTo>
                  <a:lnTo>
                    <a:pt x="304" y="44"/>
                  </a:lnTo>
                  <a:lnTo>
                    <a:pt x="302" y="47"/>
                  </a:lnTo>
                  <a:lnTo>
                    <a:pt x="299" y="51"/>
                  </a:lnTo>
                  <a:lnTo>
                    <a:pt x="295" y="54"/>
                  </a:lnTo>
                  <a:lnTo>
                    <a:pt x="291" y="56"/>
                  </a:lnTo>
                  <a:lnTo>
                    <a:pt x="287" y="57"/>
                  </a:lnTo>
                  <a:lnTo>
                    <a:pt x="283" y="57"/>
                  </a:lnTo>
                  <a:lnTo>
                    <a:pt x="262" y="57"/>
                  </a:lnTo>
                  <a:lnTo>
                    <a:pt x="262" y="18"/>
                  </a:lnTo>
                  <a:lnTo>
                    <a:pt x="283" y="18"/>
                  </a:lnTo>
                  <a:lnTo>
                    <a:pt x="287" y="18"/>
                  </a:lnTo>
                  <a:lnTo>
                    <a:pt x="291" y="19"/>
                  </a:lnTo>
                  <a:lnTo>
                    <a:pt x="295" y="21"/>
                  </a:lnTo>
                  <a:lnTo>
                    <a:pt x="298" y="23"/>
                  </a:lnTo>
                  <a:lnTo>
                    <a:pt x="301" y="25"/>
                  </a:lnTo>
                  <a:lnTo>
                    <a:pt x="304" y="28"/>
                  </a:lnTo>
                  <a:lnTo>
                    <a:pt x="305" y="32"/>
                  </a:lnTo>
                  <a:lnTo>
                    <a:pt x="305" y="35"/>
                  </a:lnTo>
                  <a:close/>
                  <a:moveTo>
                    <a:pt x="524" y="130"/>
                  </a:moveTo>
                  <a:lnTo>
                    <a:pt x="524" y="2"/>
                  </a:lnTo>
                  <a:lnTo>
                    <a:pt x="505" y="2"/>
                  </a:lnTo>
                  <a:lnTo>
                    <a:pt x="505" y="55"/>
                  </a:lnTo>
                  <a:lnTo>
                    <a:pt x="443" y="55"/>
                  </a:lnTo>
                  <a:lnTo>
                    <a:pt x="443" y="2"/>
                  </a:lnTo>
                  <a:lnTo>
                    <a:pt x="425" y="2"/>
                  </a:lnTo>
                  <a:lnTo>
                    <a:pt x="425" y="130"/>
                  </a:lnTo>
                  <a:lnTo>
                    <a:pt x="443" y="130"/>
                  </a:lnTo>
                  <a:lnTo>
                    <a:pt x="443" y="71"/>
                  </a:lnTo>
                  <a:lnTo>
                    <a:pt x="505" y="71"/>
                  </a:lnTo>
                  <a:lnTo>
                    <a:pt x="505" y="130"/>
                  </a:lnTo>
                  <a:lnTo>
                    <a:pt x="524" y="130"/>
                  </a:lnTo>
                  <a:close/>
                  <a:moveTo>
                    <a:pt x="632" y="18"/>
                  </a:moveTo>
                  <a:lnTo>
                    <a:pt x="632" y="2"/>
                  </a:lnTo>
                  <a:lnTo>
                    <a:pt x="560" y="2"/>
                  </a:lnTo>
                  <a:lnTo>
                    <a:pt x="560" y="130"/>
                  </a:lnTo>
                  <a:lnTo>
                    <a:pt x="632" y="130"/>
                  </a:lnTo>
                  <a:lnTo>
                    <a:pt x="632" y="114"/>
                  </a:lnTo>
                  <a:lnTo>
                    <a:pt x="579" y="114"/>
                  </a:lnTo>
                  <a:lnTo>
                    <a:pt x="579" y="72"/>
                  </a:lnTo>
                  <a:lnTo>
                    <a:pt x="628" y="72"/>
                  </a:lnTo>
                  <a:lnTo>
                    <a:pt x="628" y="55"/>
                  </a:lnTo>
                  <a:lnTo>
                    <a:pt x="579" y="55"/>
                  </a:lnTo>
                  <a:lnTo>
                    <a:pt x="579" y="18"/>
                  </a:lnTo>
                  <a:lnTo>
                    <a:pt x="632" y="18"/>
                  </a:lnTo>
                  <a:close/>
                  <a:moveTo>
                    <a:pt x="778" y="130"/>
                  </a:moveTo>
                  <a:lnTo>
                    <a:pt x="722" y="2"/>
                  </a:lnTo>
                  <a:lnTo>
                    <a:pt x="704" y="2"/>
                  </a:lnTo>
                  <a:lnTo>
                    <a:pt x="649" y="130"/>
                  </a:lnTo>
                  <a:lnTo>
                    <a:pt x="669" y="130"/>
                  </a:lnTo>
                  <a:lnTo>
                    <a:pt x="682" y="98"/>
                  </a:lnTo>
                  <a:lnTo>
                    <a:pt x="745" y="98"/>
                  </a:lnTo>
                  <a:lnTo>
                    <a:pt x="758" y="130"/>
                  </a:lnTo>
                  <a:lnTo>
                    <a:pt x="778" y="130"/>
                  </a:lnTo>
                  <a:close/>
                  <a:moveTo>
                    <a:pt x="739" y="83"/>
                  </a:moveTo>
                  <a:lnTo>
                    <a:pt x="688" y="83"/>
                  </a:lnTo>
                  <a:lnTo>
                    <a:pt x="713" y="20"/>
                  </a:lnTo>
                  <a:lnTo>
                    <a:pt x="739" y="83"/>
                  </a:lnTo>
                  <a:close/>
                  <a:moveTo>
                    <a:pt x="870" y="130"/>
                  </a:moveTo>
                  <a:lnTo>
                    <a:pt x="870" y="114"/>
                  </a:lnTo>
                  <a:lnTo>
                    <a:pt x="817" y="114"/>
                  </a:lnTo>
                  <a:lnTo>
                    <a:pt x="817" y="2"/>
                  </a:lnTo>
                  <a:lnTo>
                    <a:pt x="799" y="2"/>
                  </a:lnTo>
                  <a:lnTo>
                    <a:pt x="799" y="130"/>
                  </a:lnTo>
                  <a:lnTo>
                    <a:pt x="870" y="130"/>
                  </a:lnTo>
                  <a:close/>
                  <a:moveTo>
                    <a:pt x="976" y="18"/>
                  </a:moveTo>
                  <a:lnTo>
                    <a:pt x="976" y="2"/>
                  </a:lnTo>
                  <a:lnTo>
                    <a:pt x="879" y="2"/>
                  </a:lnTo>
                  <a:lnTo>
                    <a:pt x="879" y="18"/>
                  </a:lnTo>
                  <a:lnTo>
                    <a:pt x="918" y="18"/>
                  </a:lnTo>
                  <a:lnTo>
                    <a:pt x="918" y="130"/>
                  </a:lnTo>
                  <a:lnTo>
                    <a:pt x="937" y="130"/>
                  </a:lnTo>
                  <a:lnTo>
                    <a:pt x="937" y="18"/>
                  </a:lnTo>
                  <a:lnTo>
                    <a:pt x="976" y="18"/>
                  </a:lnTo>
                  <a:close/>
                  <a:moveTo>
                    <a:pt x="1097" y="130"/>
                  </a:moveTo>
                  <a:lnTo>
                    <a:pt x="1097" y="2"/>
                  </a:lnTo>
                  <a:lnTo>
                    <a:pt x="1078" y="2"/>
                  </a:lnTo>
                  <a:lnTo>
                    <a:pt x="1078" y="55"/>
                  </a:lnTo>
                  <a:lnTo>
                    <a:pt x="1016" y="55"/>
                  </a:lnTo>
                  <a:lnTo>
                    <a:pt x="1016" y="2"/>
                  </a:lnTo>
                  <a:lnTo>
                    <a:pt x="998" y="2"/>
                  </a:lnTo>
                  <a:lnTo>
                    <a:pt x="998" y="130"/>
                  </a:lnTo>
                  <a:lnTo>
                    <a:pt x="1016" y="130"/>
                  </a:lnTo>
                  <a:lnTo>
                    <a:pt x="1016" y="71"/>
                  </a:lnTo>
                  <a:lnTo>
                    <a:pt x="1078" y="71"/>
                  </a:lnTo>
                  <a:lnTo>
                    <a:pt x="1078" y="130"/>
                  </a:lnTo>
                  <a:lnTo>
                    <a:pt x="1097" y="130"/>
                  </a:lnTo>
                  <a:close/>
                  <a:moveTo>
                    <a:pt x="1312" y="130"/>
                  </a:moveTo>
                  <a:lnTo>
                    <a:pt x="1256" y="2"/>
                  </a:lnTo>
                  <a:lnTo>
                    <a:pt x="1238" y="2"/>
                  </a:lnTo>
                  <a:lnTo>
                    <a:pt x="1183" y="130"/>
                  </a:lnTo>
                  <a:lnTo>
                    <a:pt x="1203" y="130"/>
                  </a:lnTo>
                  <a:lnTo>
                    <a:pt x="1216" y="98"/>
                  </a:lnTo>
                  <a:lnTo>
                    <a:pt x="1279" y="98"/>
                  </a:lnTo>
                  <a:lnTo>
                    <a:pt x="1292" y="130"/>
                  </a:lnTo>
                  <a:lnTo>
                    <a:pt x="1312" y="130"/>
                  </a:lnTo>
                  <a:close/>
                  <a:moveTo>
                    <a:pt x="1273" y="83"/>
                  </a:moveTo>
                  <a:lnTo>
                    <a:pt x="1222" y="83"/>
                  </a:lnTo>
                  <a:lnTo>
                    <a:pt x="1247" y="20"/>
                  </a:lnTo>
                  <a:lnTo>
                    <a:pt x="1273" y="83"/>
                  </a:lnTo>
                  <a:close/>
                  <a:moveTo>
                    <a:pt x="1432" y="130"/>
                  </a:moveTo>
                  <a:lnTo>
                    <a:pt x="1432" y="2"/>
                  </a:lnTo>
                  <a:lnTo>
                    <a:pt x="1414" y="2"/>
                  </a:lnTo>
                  <a:lnTo>
                    <a:pt x="1414" y="105"/>
                  </a:lnTo>
                  <a:lnTo>
                    <a:pt x="1413" y="105"/>
                  </a:lnTo>
                  <a:lnTo>
                    <a:pt x="1357" y="2"/>
                  </a:lnTo>
                  <a:lnTo>
                    <a:pt x="1333" y="2"/>
                  </a:lnTo>
                  <a:lnTo>
                    <a:pt x="1333" y="130"/>
                  </a:lnTo>
                  <a:lnTo>
                    <a:pt x="1352" y="130"/>
                  </a:lnTo>
                  <a:lnTo>
                    <a:pt x="1352" y="28"/>
                  </a:lnTo>
                  <a:lnTo>
                    <a:pt x="1408" y="130"/>
                  </a:lnTo>
                  <a:lnTo>
                    <a:pt x="1432" y="130"/>
                  </a:lnTo>
                  <a:close/>
                  <a:moveTo>
                    <a:pt x="1573" y="67"/>
                  </a:moveTo>
                  <a:lnTo>
                    <a:pt x="1573" y="60"/>
                  </a:lnTo>
                  <a:lnTo>
                    <a:pt x="1572" y="54"/>
                  </a:lnTo>
                  <a:lnTo>
                    <a:pt x="1571" y="48"/>
                  </a:lnTo>
                  <a:lnTo>
                    <a:pt x="1569" y="42"/>
                  </a:lnTo>
                  <a:lnTo>
                    <a:pt x="1566" y="36"/>
                  </a:lnTo>
                  <a:lnTo>
                    <a:pt x="1564" y="31"/>
                  </a:lnTo>
                  <a:lnTo>
                    <a:pt x="1560" y="26"/>
                  </a:lnTo>
                  <a:lnTo>
                    <a:pt x="1556" y="21"/>
                  </a:lnTo>
                  <a:lnTo>
                    <a:pt x="1552" y="17"/>
                  </a:lnTo>
                  <a:lnTo>
                    <a:pt x="1547" y="13"/>
                  </a:lnTo>
                  <a:lnTo>
                    <a:pt x="1542" y="10"/>
                  </a:lnTo>
                  <a:lnTo>
                    <a:pt x="1536" y="7"/>
                  </a:lnTo>
                  <a:lnTo>
                    <a:pt x="1531" y="5"/>
                  </a:lnTo>
                  <a:lnTo>
                    <a:pt x="1524" y="3"/>
                  </a:lnTo>
                  <a:lnTo>
                    <a:pt x="1518" y="2"/>
                  </a:lnTo>
                  <a:lnTo>
                    <a:pt x="1511" y="2"/>
                  </a:lnTo>
                  <a:lnTo>
                    <a:pt x="1466" y="2"/>
                  </a:lnTo>
                  <a:lnTo>
                    <a:pt x="1466" y="130"/>
                  </a:lnTo>
                  <a:lnTo>
                    <a:pt x="1511" y="130"/>
                  </a:lnTo>
                  <a:lnTo>
                    <a:pt x="1518" y="130"/>
                  </a:lnTo>
                  <a:lnTo>
                    <a:pt x="1524" y="129"/>
                  </a:lnTo>
                  <a:lnTo>
                    <a:pt x="1531" y="128"/>
                  </a:lnTo>
                  <a:lnTo>
                    <a:pt x="1536" y="126"/>
                  </a:lnTo>
                  <a:lnTo>
                    <a:pt x="1542" y="123"/>
                  </a:lnTo>
                  <a:lnTo>
                    <a:pt x="1547" y="120"/>
                  </a:lnTo>
                  <a:lnTo>
                    <a:pt x="1552" y="116"/>
                  </a:lnTo>
                  <a:lnTo>
                    <a:pt x="1556" y="112"/>
                  </a:lnTo>
                  <a:lnTo>
                    <a:pt x="1560" y="107"/>
                  </a:lnTo>
                  <a:lnTo>
                    <a:pt x="1564" y="102"/>
                  </a:lnTo>
                  <a:lnTo>
                    <a:pt x="1566" y="97"/>
                  </a:lnTo>
                  <a:lnTo>
                    <a:pt x="1568" y="94"/>
                  </a:lnTo>
                  <a:lnTo>
                    <a:pt x="1569" y="91"/>
                  </a:lnTo>
                  <a:lnTo>
                    <a:pt x="1571" y="86"/>
                  </a:lnTo>
                  <a:lnTo>
                    <a:pt x="1572" y="80"/>
                  </a:lnTo>
                  <a:lnTo>
                    <a:pt x="1573" y="73"/>
                  </a:lnTo>
                  <a:lnTo>
                    <a:pt x="1573" y="67"/>
                  </a:lnTo>
                  <a:close/>
                  <a:moveTo>
                    <a:pt x="1554" y="67"/>
                  </a:moveTo>
                  <a:lnTo>
                    <a:pt x="1554" y="72"/>
                  </a:lnTo>
                  <a:lnTo>
                    <a:pt x="1554" y="76"/>
                  </a:lnTo>
                  <a:lnTo>
                    <a:pt x="1553" y="81"/>
                  </a:lnTo>
                  <a:lnTo>
                    <a:pt x="1551" y="85"/>
                  </a:lnTo>
                  <a:lnTo>
                    <a:pt x="1550" y="89"/>
                  </a:lnTo>
                  <a:lnTo>
                    <a:pt x="1548" y="93"/>
                  </a:lnTo>
                  <a:lnTo>
                    <a:pt x="1543" y="100"/>
                  </a:lnTo>
                  <a:lnTo>
                    <a:pt x="1539" y="103"/>
                  </a:lnTo>
                  <a:lnTo>
                    <a:pt x="1536" y="106"/>
                  </a:lnTo>
                  <a:lnTo>
                    <a:pt x="1532" y="109"/>
                  </a:lnTo>
                  <a:lnTo>
                    <a:pt x="1529" y="110"/>
                  </a:lnTo>
                  <a:lnTo>
                    <a:pt x="1525" y="112"/>
                  </a:lnTo>
                  <a:lnTo>
                    <a:pt x="1520" y="113"/>
                  </a:lnTo>
                  <a:lnTo>
                    <a:pt x="1511" y="114"/>
                  </a:lnTo>
                  <a:lnTo>
                    <a:pt x="1485" y="114"/>
                  </a:lnTo>
                  <a:lnTo>
                    <a:pt x="1485" y="18"/>
                  </a:lnTo>
                  <a:lnTo>
                    <a:pt x="1511" y="18"/>
                  </a:lnTo>
                  <a:lnTo>
                    <a:pt x="1516" y="19"/>
                  </a:lnTo>
                  <a:lnTo>
                    <a:pt x="1520" y="19"/>
                  </a:lnTo>
                  <a:lnTo>
                    <a:pt x="1525" y="21"/>
                  </a:lnTo>
                  <a:lnTo>
                    <a:pt x="1529" y="22"/>
                  </a:lnTo>
                  <a:lnTo>
                    <a:pt x="1532" y="24"/>
                  </a:lnTo>
                  <a:lnTo>
                    <a:pt x="1536" y="27"/>
                  </a:lnTo>
                  <a:lnTo>
                    <a:pt x="1539" y="30"/>
                  </a:lnTo>
                  <a:lnTo>
                    <a:pt x="1543" y="33"/>
                  </a:lnTo>
                  <a:lnTo>
                    <a:pt x="1545" y="37"/>
                  </a:lnTo>
                  <a:lnTo>
                    <a:pt x="1548" y="41"/>
                  </a:lnTo>
                  <a:lnTo>
                    <a:pt x="1550" y="44"/>
                  </a:lnTo>
                  <a:lnTo>
                    <a:pt x="1551" y="49"/>
                  </a:lnTo>
                  <a:lnTo>
                    <a:pt x="1553" y="53"/>
                  </a:lnTo>
                  <a:lnTo>
                    <a:pt x="1554" y="57"/>
                  </a:lnTo>
                  <a:lnTo>
                    <a:pt x="1554" y="62"/>
                  </a:lnTo>
                  <a:lnTo>
                    <a:pt x="1554" y="67"/>
                  </a:lnTo>
                  <a:close/>
                  <a:moveTo>
                    <a:pt x="1835" y="2"/>
                  </a:moveTo>
                  <a:lnTo>
                    <a:pt x="1816" y="2"/>
                  </a:lnTo>
                  <a:lnTo>
                    <a:pt x="1784" y="108"/>
                  </a:lnTo>
                  <a:lnTo>
                    <a:pt x="1783" y="108"/>
                  </a:lnTo>
                  <a:lnTo>
                    <a:pt x="1756" y="2"/>
                  </a:lnTo>
                  <a:lnTo>
                    <a:pt x="1730" y="2"/>
                  </a:lnTo>
                  <a:lnTo>
                    <a:pt x="1703" y="108"/>
                  </a:lnTo>
                  <a:lnTo>
                    <a:pt x="1701" y="108"/>
                  </a:lnTo>
                  <a:lnTo>
                    <a:pt x="1670" y="2"/>
                  </a:lnTo>
                  <a:lnTo>
                    <a:pt x="1650" y="2"/>
                  </a:lnTo>
                  <a:lnTo>
                    <a:pt x="1690" y="130"/>
                  </a:lnTo>
                  <a:lnTo>
                    <a:pt x="1714" y="130"/>
                  </a:lnTo>
                  <a:lnTo>
                    <a:pt x="1743" y="19"/>
                  </a:lnTo>
                  <a:lnTo>
                    <a:pt x="1744" y="19"/>
                  </a:lnTo>
                  <a:lnTo>
                    <a:pt x="1772" y="130"/>
                  </a:lnTo>
                  <a:lnTo>
                    <a:pt x="1795" y="130"/>
                  </a:lnTo>
                  <a:lnTo>
                    <a:pt x="1835" y="2"/>
                  </a:lnTo>
                  <a:close/>
                  <a:moveTo>
                    <a:pt x="1929" y="18"/>
                  </a:moveTo>
                  <a:lnTo>
                    <a:pt x="1929" y="2"/>
                  </a:lnTo>
                  <a:lnTo>
                    <a:pt x="1856" y="2"/>
                  </a:lnTo>
                  <a:lnTo>
                    <a:pt x="1856" y="130"/>
                  </a:lnTo>
                  <a:lnTo>
                    <a:pt x="1928" y="130"/>
                  </a:lnTo>
                  <a:lnTo>
                    <a:pt x="1928" y="114"/>
                  </a:lnTo>
                  <a:lnTo>
                    <a:pt x="1875" y="114"/>
                  </a:lnTo>
                  <a:lnTo>
                    <a:pt x="1875" y="72"/>
                  </a:lnTo>
                  <a:lnTo>
                    <a:pt x="1924" y="72"/>
                  </a:lnTo>
                  <a:lnTo>
                    <a:pt x="1924" y="55"/>
                  </a:lnTo>
                  <a:lnTo>
                    <a:pt x="1875" y="55"/>
                  </a:lnTo>
                  <a:lnTo>
                    <a:pt x="1875" y="18"/>
                  </a:lnTo>
                  <a:lnTo>
                    <a:pt x="1929" y="18"/>
                  </a:lnTo>
                  <a:close/>
                  <a:moveTo>
                    <a:pt x="2031" y="130"/>
                  </a:moveTo>
                  <a:lnTo>
                    <a:pt x="2031" y="114"/>
                  </a:lnTo>
                  <a:lnTo>
                    <a:pt x="1978" y="114"/>
                  </a:lnTo>
                  <a:lnTo>
                    <a:pt x="1978" y="2"/>
                  </a:lnTo>
                  <a:lnTo>
                    <a:pt x="1960" y="2"/>
                  </a:lnTo>
                  <a:lnTo>
                    <a:pt x="1960" y="130"/>
                  </a:lnTo>
                  <a:lnTo>
                    <a:pt x="2031" y="130"/>
                  </a:lnTo>
                  <a:close/>
                  <a:moveTo>
                    <a:pt x="2127" y="18"/>
                  </a:moveTo>
                  <a:lnTo>
                    <a:pt x="2127" y="2"/>
                  </a:lnTo>
                  <a:lnTo>
                    <a:pt x="2055" y="2"/>
                  </a:lnTo>
                  <a:lnTo>
                    <a:pt x="2055" y="130"/>
                  </a:lnTo>
                  <a:lnTo>
                    <a:pt x="2073" y="130"/>
                  </a:lnTo>
                  <a:lnTo>
                    <a:pt x="2073" y="72"/>
                  </a:lnTo>
                  <a:lnTo>
                    <a:pt x="2122" y="72"/>
                  </a:lnTo>
                  <a:lnTo>
                    <a:pt x="2122" y="55"/>
                  </a:lnTo>
                  <a:lnTo>
                    <a:pt x="2073" y="55"/>
                  </a:lnTo>
                  <a:lnTo>
                    <a:pt x="2073" y="18"/>
                  </a:lnTo>
                  <a:lnTo>
                    <a:pt x="2127" y="18"/>
                  </a:lnTo>
                  <a:close/>
                  <a:moveTo>
                    <a:pt x="2262" y="130"/>
                  </a:moveTo>
                  <a:lnTo>
                    <a:pt x="2206" y="2"/>
                  </a:lnTo>
                  <a:lnTo>
                    <a:pt x="2188" y="2"/>
                  </a:lnTo>
                  <a:lnTo>
                    <a:pt x="2132" y="130"/>
                  </a:lnTo>
                  <a:lnTo>
                    <a:pt x="2152" y="130"/>
                  </a:lnTo>
                  <a:lnTo>
                    <a:pt x="2165" y="98"/>
                  </a:lnTo>
                  <a:lnTo>
                    <a:pt x="2228" y="98"/>
                  </a:lnTo>
                  <a:lnTo>
                    <a:pt x="2242" y="130"/>
                  </a:lnTo>
                  <a:lnTo>
                    <a:pt x="2262" y="130"/>
                  </a:lnTo>
                  <a:close/>
                  <a:moveTo>
                    <a:pt x="2222" y="83"/>
                  </a:moveTo>
                  <a:lnTo>
                    <a:pt x="2171" y="83"/>
                  </a:lnTo>
                  <a:lnTo>
                    <a:pt x="2197" y="20"/>
                  </a:lnTo>
                  <a:lnTo>
                    <a:pt x="2222" y="83"/>
                  </a:lnTo>
                  <a:close/>
                  <a:moveTo>
                    <a:pt x="2377" y="130"/>
                  </a:moveTo>
                  <a:lnTo>
                    <a:pt x="2377" y="114"/>
                  </a:lnTo>
                  <a:lnTo>
                    <a:pt x="2373" y="114"/>
                  </a:lnTo>
                  <a:lnTo>
                    <a:pt x="2371" y="114"/>
                  </a:lnTo>
                  <a:lnTo>
                    <a:pt x="2369" y="113"/>
                  </a:lnTo>
                  <a:lnTo>
                    <a:pt x="2368" y="112"/>
                  </a:lnTo>
                  <a:lnTo>
                    <a:pt x="2366" y="110"/>
                  </a:lnTo>
                  <a:lnTo>
                    <a:pt x="2362" y="104"/>
                  </a:lnTo>
                  <a:lnTo>
                    <a:pt x="2358" y="97"/>
                  </a:lnTo>
                  <a:lnTo>
                    <a:pt x="2353" y="87"/>
                  </a:lnTo>
                  <a:lnTo>
                    <a:pt x="2349" y="78"/>
                  </a:lnTo>
                  <a:lnTo>
                    <a:pt x="2344" y="72"/>
                  </a:lnTo>
                  <a:lnTo>
                    <a:pt x="2341" y="67"/>
                  </a:lnTo>
                  <a:lnTo>
                    <a:pt x="2347" y="64"/>
                  </a:lnTo>
                  <a:lnTo>
                    <a:pt x="2352" y="61"/>
                  </a:lnTo>
                  <a:lnTo>
                    <a:pt x="2356" y="58"/>
                  </a:lnTo>
                  <a:lnTo>
                    <a:pt x="2360" y="54"/>
                  </a:lnTo>
                  <a:lnTo>
                    <a:pt x="2362" y="50"/>
                  </a:lnTo>
                  <a:lnTo>
                    <a:pt x="2364" y="45"/>
                  </a:lnTo>
                  <a:lnTo>
                    <a:pt x="2366" y="40"/>
                  </a:lnTo>
                  <a:lnTo>
                    <a:pt x="2366" y="35"/>
                  </a:lnTo>
                  <a:lnTo>
                    <a:pt x="2366" y="32"/>
                  </a:lnTo>
                  <a:lnTo>
                    <a:pt x="2365" y="28"/>
                  </a:lnTo>
                  <a:lnTo>
                    <a:pt x="2363" y="22"/>
                  </a:lnTo>
                  <a:lnTo>
                    <a:pt x="2362" y="19"/>
                  </a:lnTo>
                  <a:lnTo>
                    <a:pt x="2360" y="16"/>
                  </a:lnTo>
                  <a:lnTo>
                    <a:pt x="2357" y="13"/>
                  </a:lnTo>
                  <a:lnTo>
                    <a:pt x="2355" y="11"/>
                  </a:lnTo>
                  <a:lnTo>
                    <a:pt x="2349" y="7"/>
                  </a:lnTo>
                  <a:lnTo>
                    <a:pt x="2346" y="6"/>
                  </a:lnTo>
                  <a:lnTo>
                    <a:pt x="2342" y="4"/>
                  </a:lnTo>
                  <a:lnTo>
                    <a:pt x="2335" y="3"/>
                  </a:lnTo>
                  <a:lnTo>
                    <a:pt x="2327" y="2"/>
                  </a:lnTo>
                  <a:lnTo>
                    <a:pt x="2284" y="2"/>
                  </a:lnTo>
                  <a:lnTo>
                    <a:pt x="2284" y="130"/>
                  </a:lnTo>
                  <a:lnTo>
                    <a:pt x="2303" y="130"/>
                  </a:lnTo>
                  <a:lnTo>
                    <a:pt x="2303" y="74"/>
                  </a:lnTo>
                  <a:lnTo>
                    <a:pt x="2317" y="74"/>
                  </a:lnTo>
                  <a:lnTo>
                    <a:pt x="2319" y="74"/>
                  </a:lnTo>
                  <a:lnTo>
                    <a:pt x="2322" y="75"/>
                  </a:lnTo>
                  <a:lnTo>
                    <a:pt x="2324" y="76"/>
                  </a:lnTo>
                  <a:lnTo>
                    <a:pt x="2326" y="77"/>
                  </a:lnTo>
                  <a:lnTo>
                    <a:pt x="2330" y="82"/>
                  </a:lnTo>
                  <a:lnTo>
                    <a:pt x="2334" y="88"/>
                  </a:lnTo>
                  <a:lnTo>
                    <a:pt x="2347" y="116"/>
                  </a:lnTo>
                  <a:lnTo>
                    <a:pt x="2350" y="119"/>
                  </a:lnTo>
                  <a:lnTo>
                    <a:pt x="2353" y="122"/>
                  </a:lnTo>
                  <a:lnTo>
                    <a:pt x="2356" y="125"/>
                  </a:lnTo>
                  <a:lnTo>
                    <a:pt x="2359" y="127"/>
                  </a:lnTo>
                  <a:lnTo>
                    <a:pt x="2362" y="128"/>
                  </a:lnTo>
                  <a:lnTo>
                    <a:pt x="2365" y="129"/>
                  </a:lnTo>
                  <a:lnTo>
                    <a:pt x="2369" y="130"/>
                  </a:lnTo>
                  <a:lnTo>
                    <a:pt x="2373" y="130"/>
                  </a:lnTo>
                  <a:lnTo>
                    <a:pt x="2377" y="130"/>
                  </a:lnTo>
                  <a:close/>
                  <a:moveTo>
                    <a:pt x="2346" y="35"/>
                  </a:moveTo>
                  <a:lnTo>
                    <a:pt x="2346" y="40"/>
                  </a:lnTo>
                  <a:lnTo>
                    <a:pt x="2345" y="44"/>
                  </a:lnTo>
                  <a:lnTo>
                    <a:pt x="2342" y="47"/>
                  </a:lnTo>
                  <a:lnTo>
                    <a:pt x="2339" y="51"/>
                  </a:lnTo>
                  <a:lnTo>
                    <a:pt x="2336" y="54"/>
                  </a:lnTo>
                  <a:lnTo>
                    <a:pt x="2332" y="56"/>
                  </a:lnTo>
                  <a:lnTo>
                    <a:pt x="2328" y="57"/>
                  </a:lnTo>
                  <a:lnTo>
                    <a:pt x="2323" y="57"/>
                  </a:lnTo>
                  <a:lnTo>
                    <a:pt x="2303" y="57"/>
                  </a:lnTo>
                  <a:lnTo>
                    <a:pt x="2303" y="18"/>
                  </a:lnTo>
                  <a:lnTo>
                    <a:pt x="2323" y="18"/>
                  </a:lnTo>
                  <a:lnTo>
                    <a:pt x="2328" y="18"/>
                  </a:lnTo>
                  <a:lnTo>
                    <a:pt x="2332" y="19"/>
                  </a:lnTo>
                  <a:lnTo>
                    <a:pt x="2336" y="21"/>
                  </a:lnTo>
                  <a:lnTo>
                    <a:pt x="2339" y="23"/>
                  </a:lnTo>
                  <a:lnTo>
                    <a:pt x="2342" y="25"/>
                  </a:lnTo>
                  <a:lnTo>
                    <a:pt x="2344" y="28"/>
                  </a:lnTo>
                  <a:lnTo>
                    <a:pt x="2346" y="32"/>
                  </a:lnTo>
                  <a:lnTo>
                    <a:pt x="2346" y="35"/>
                  </a:lnTo>
                  <a:close/>
                  <a:moveTo>
                    <a:pt x="2476" y="18"/>
                  </a:moveTo>
                  <a:lnTo>
                    <a:pt x="2476" y="2"/>
                  </a:lnTo>
                  <a:lnTo>
                    <a:pt x="2404" y="2"/>
                  </a:lnTo>
                  <a:lnTo>
                    <a:pt x="2404" y="130"/>
                  </a:lnTo>
                  <a:lnTo>
                    <a:pt x="2476" y="130"/>
                  </a:lnTo>
                  <a:lnTo>
                    <a:pt x="2476" y="114"/>
                  </a:lnTo>
                  <a:lnTo>
                    <a:pt x="2422" y="114"/>
                  </a:lnTo>
                  <a:lnTo>
                    <a:pt x="2422" y="72"/>
                  </a:lnTo>
                  <a:lnTo>
                    <a:pt x="2471" y="72"/>
                  </a:lnTo>
                  <a:lnTo>
                    <a:pt x="2471" y="55"/>
                  </a:lnTo>
                  <a:lnTo>
                    <a:pt x="2422" y="55"/>
                  </a:lnTo>
                  <a:lnTo>
                    <a:pt x="2422" y="18"/>
                  </a:lnTo>
                  <a:lnTo>
                    <a:pt x="2476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41280" y="3645000"/>
              <a:ext cx="2820960" cy="198360"/>
            </a:xfrm>
            <a:custGeom>
              <a:avLst/>
              <a:gdLst/>
              <a:ahLst/>
              <a:rect l="l" t="t" r="r" b="b"/>
              <a:pathLst>
                <a:path w="1885" h="133">
                  <a:moveTo>
                    <a:pt x="100" y="131"/>
                  </a:moveTo>
                  <a:lnTo>
                    <a:pt x="100" y="2"/>
                  </a:lnTo>
                  <a:lnTo>
                    <a:pt x="81" y="2"/>
                  </a:lnTo>
                  <a:lnTo>
                    <a:pt x="81" y="105"/>
                  </a:lnTo>
                  <a:lnTo>
                    <a:pt x="80" y="105"/>
                  </a:lnTo>
                  <a:lnTo>
                    <a:pt x="24" y="2"/>
                  </a:lnTo>
                  <a:lnTo>
                    <a:pt x="0" y="2"/>
                  </a:lnTo>
                  <a:lnTo>
                    <a:pt x="0" y="131"/>
                  </a:lnTo>
                  <a:lnTo>
                    <a:pt x="19" y="131"/>
                  </a:lnTo>
                  <a:lnTo>
                    <a:pt x="19" y="28"/>
                  </a:lnTo>
                  <a:lnTo>
                    <a:pt x="76" y="131"/>
                  </a:lnTo>
                  <a:lnTo>
                    <a:pt x="100" y="131"/>
                  </a:lnTo>
                  <a:close/>
                  <a:moveTo>
                    <a:pt x="250" y="131"/>
                  </a:moveTo>
                  <a:lnTo>
                    <a:pt x="194" y="2"/>
                  </a:lnTo>
                  <a:lnTo>
                    <a:pt x="176" y="2"/>
                  </a:lnTo>
                  <a:lnTo>
                    <a:pt x="120" y="131"/>
                  </a:lnTo>
                  <a:lnTo>
                    <a:pt x="140" y="131"/>
                  </a:lnTo>
                  <a:lnTo>
                    <a:pt x="153" y="98"/>
                  </a:lnTo>
                  <a:lnTo>
                    <a:pt x="216" y="98"/>
                  </a:lnTo>
                  <a:lnTo>
                    <a:pt x="230" y="131"/>
                  </a:lnTo>
                  <a:lnTo>
                    <a:pt x="250" y="131"/>
                  </a:lnTo>
                  <a:close/>
                  <a:moveTo>
                    <a:pt x="210" y="83"/>
                  </a:moveTo>
                  <a:lnTo>
                    <a:pt x="160" y="83"/>
                  </a:lnTo>
                  <a:lnTo>
                    <a:pt x="185" y="20"/>
                  </a:lnTo>
                  <a:lnTo>
                    <a:pt x="210" y="83"/>
                  </a:lnTo>
                  <a:close/>
                  <a:moveTo>
                    <a:pt x="342" y="18"/>
                  </a:moveTo>
                  <a:lnTo>
                    <a:pt x="342" y="2"/>
                  </a:lnTo>
                  <a:lnTo>
                    <a:pt x="245" y="2"/>
                  </a:lnTo>
                  <a:lnTo>
                    <a:pt x="245" y="18"/>
                  </a:lnTo>
                  <a:lnTo>
                    <a:pt x="284" y="18"/>
                  </a:lnTo>
                  <a:lnTo>
                    <a:pt x="284" y="131"/>
                  </a:lnTo>
                  <a:lnTo>
                    <a:pt x="303" y="131"/>
                  </a:lnTo>
                  <a:lnTo>
                    <a:pt x="303" y="18"/>
                  </a:lnTo>
                  <a:lnTo>
                    <a:pt x="342" y="18"/>
                  </a:lnTo>
                  <a:close/>
                  <a:moveTo>
                    <a:pt x="386" y="131"/>
                  </a:moveTo>
                  <a:lnTo>
                    <a:pt x="386" y="2"/>
                  </a:lnTo>
                  <a:lnTo>
                    <a:pt x="368" y="2"/>
                  </a:lnTo>
                  <a:lnTo>
                    <a:pt x="368" y="131"/>
                  </a:lnTo>
                  <a:lnTo>
                    <a:pt x="386" y="131"/>
                  </a:lnTo>
                  <a:close/>
                  <a:moveTo>
                    <a:pt x="538" y="67"/>
                  </a:moveTo>
                  <a:lnTo>
                    <a:pt x="537" y="60"/>
                  </a:lnTo>
                  <a:lnTo>
                    <a:pt x="537" y="53"/>
                  </a:lnTo>
                  <a:lnTo>
                    <a:pt x="535" y="46"/>
                  </a:lnTo>
                  <a:lnTo>
                    <a:pt x="534" y="40"/>
                  </a:lnTo>
                  <a:lnTo>
                    <a:pt x="531" y="35"/>
                  </a:lnTo>
                  <a:lnTo>
                    <a:pt x="529" y="29"/>
                  </a:lnTo>
                  <a:lnTo>
                    <a:pt x="526" y="24"/>
                  </a:lnTo>
                  <a:lnTo>
                    <a:pt x="522" y="19"/>
                  </a:lnTo>
                  <a:lnTo>
                    <a:pt x="518" y="15"/>
                  </a:lnTo>
                  <a:lnTo>
                    <a:pt x="513" y="11"/>
                  </a:lnTo>
                  <a:lnTo>
                    <a:pt x="508" y="8"/>
                  </a:lnTo>
                  <a:lnTo>
                    <a:pt x="502" y="5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3" y="0"/>
                  </a:lnTo>
                  <a:lnTo>
                    <a:pt x="476" y="0"/>
                  </a:lnTo>
                  <a:lnTo>
                    <a:pt x="469" y="0"/>
                  </a:lnTo>
                  <a:lnTo>
                    <a:pt x="462" y="1"/>
                  </a:lnTo>
                  <a:lnTo>
                    <a:pt x="456" y="3"/>
                  </a:lnTo>
                  <a:lnTo>
                    <a:pt x="450" y="5"/>
                  </a:lnTo>
                  <a:lnTo>
                    <a:pt x="444" y="8"/>
                  </a:lnTo>
                  <a:lnTo>
                    <a:pt x="439" y="11"/>
                  </a:lnTo>
                  <a:lnTo>
                    <a:pt x="435" y="15"/>
                  </a:lnTo>
                  <a:lnTo>
                    <a:pt x="430" y="19"/>
                  </a:lnTo>
                  <a:lnTo>
                    <a:pt x="427" y="24"/>
                  </a:lnTo>
                  <a:lnTo>
                    <a:pt x="423" y="29"/>
                  </a:lnTo>
                  <a:lnTo>
                    <a:pt x="421" y="35"/>
                  </a:lnTo>
                  <a:lnTo>
                    <a:pt x="419" y="40"/>
                  </a:lnTo>
                  <a:lnTo>
                    <a:pt x="417" y="46"/>
                  </a:lnTo>
                  <a:lnTo>
                    <a:pt x="416" y="53"/>
                  </a:lnTo>
                  <a:lnTo>
                    <a:pt x="415" y="60"/>
                  </a:lnTo>
                  <a:lnTo>
                    <a:pt x="415" y="67"/>
                  </a:lnTo>
                  <a:lnTo>
                    <a:pt x="415" y="74"/>
                  </a:lnTo>
                  <a:lnTo>
                    <a:pt x="416" y="80"/>
                  </a:lnTo>
                  <a:lnTo>
                    <a:pt x="417" y="87"/>
                  </a:lnTo>
                  <a:lnTo>
                    <a:pt x="419" y="93"/>
                  </a:lnTo>
                  <a:lnTo>
                    <a:pt x="421" y="99"/>
                  </a:lnTo>
                  <a:lnTo>
                    <a:pt x="423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5" y="118"/>
                  </a:lnTo>
                  <a:lnTo>
                    <a:pt x="439" y="122"/>
                  </a:lnTo>
                  <a:lnTo>
                    <a:pt x="444" y="126"/>
                  </a:lnTo>
                  <a:lnTo>
                    <a:pt x="450" y="128"/>
                  </a:lnTo>
                  <a:lnTo>
                    <a:pt x="456" y="130"/>
                  </a:lnTo>
                  <a:lnTo>
                    <a:pt x="462" y="132"/>
                  </a:lnTo>
                  <a:lnTo>
                    <a:pt x="469" y="133"/>
                  </a:lnTo>
                  <a:lnTo>
                    <a:pt x="476" y="133"/>
                  </a:lnTo>
                  <a:lnTo>
                    <a:pt x="483" y="133"/>
                  </a:lnTo>
                  <a:lnTo>
                    <a:pt x="490" y="132"/>
                  </a:lnTo>
                  <a:lnTo>
                    <a:pt x="496" y="130"/>
                  </a:lnTo>
                  <a:lnTo>
                    <a:pt x="502" y="128"/>
                  </a:lnTo>
                  <a:lnTo>
                    <a:pt x="508" y="126"/>
                  </a:lnTo>
                  <a:lnTo>
                    <a:pt x="513" y="122"/>
                  </a:lnTo>
                  <a:lnTo>
                    <a:pt x="518" y="118"/>
                  </a:lnTo>
                  <a:lnTo>
                    <a:pt x="522" y="114"/>
                  </a:lnTo>
                  <a:lnTo>
                    <a:pt x="526" y="109"/>
                  </a:lnTo>
                  <a:lnTo>
                    <a:pt x="529" y="104"/>
                  </a:lnTo>
                  <a:lnTo>
                    <a:pt x="531" y="98"/>
                  </a:lnTo>
                  <a:lnTo>
                    <a:pt x="534" y="93"/>
                  </a:lnTo>
                  <a:lnTo>
                    <a:pt x="535" y="87"/>
                  </a:lnTo>
                  <a:lnTo>
                    <a:pt x="537" y="80"/>
                  </a:lnTo>
                  <a:lnTo>
                    <a:pt x="537" y="74"/>
                  </a:lnTo>
                  <a:lnTo>
                    <a:pt x="538" y="67"/>
                  </a:lnTo>
                  <a:close/>
                  <a:moveTo>
                    <a:pt x="518" y="67"/>
                  </a:moveTo>
                  <a:lnTo>
                    <a:pt x="518" y="72"/>
                  </a:lnTo>
                  <a:lnTo>
                    <a:pt x="518" y="77"/>
                  </a:lnTo>
                  <a:lnTo>
                    <a:pt x="516" y="86"/>
                  </a:lnTo>
                  <a:lnTo>
                    <a:pt x="514" y="91"/>
                  </a:lnTo>
                  <a:lnTo>
                    <a:pt x="512" y="95"/>
                  </a:lnTo>
                  <a:lnTo>
                    <a:pt x="507" y="102"/>
                  </a:lnTo>
                  <a:lnTo>
                    <a:pt x="504" y="106"/>
                  </a:lnTo>
                  <a:lnTo>
                    <a:pt x="501" y="109"/>
                  </a:lnTo>
                  <a:lnTo>
                    <a:pt x="497" y="111"/>
                  </a:lnTo>
                  <a:lnTo>
                    <a:pt x="494" y="113"/>
                  </a:lnTo>
                  <a:lnTo>
                    <a:pt x="490" y="115"/>
                  </a:lnTo>
                  <a:lnTo>
                    <a:pt x="485" y="116"/>
                  </a:lnTo>
                  <a:lnTo>
                    <a:pt x="481" y="116"/>
                  </a:lnTo>
                  <a:lnTo>
                    <a:pt x="476" y="117"/>
                  </a:lnTo>
                  <a:lnTo>
                    <a:pt x="471" y="116"/>
                  </a:lnTo>
                  <a:lnTo>
                    <a:pt x="467" y="116"/>
                  </a:lnTo>
                  <a:lnTo>
                    <a:pt x="462" y="115"/>
                  </a:lnTo>
                  <a:lnTo>
                    <a:pt x="458" y="113"/>
                  </a:lnTo>
                  <a:lnTo>
                    <a:pt x="455" y="111"/>
                  </a:lnTo>
                  <a:lnTo>
                    <a:pt x="451" y="109"/>
                  </a:lnTo>
                  <a:lnTo>
                    <a:pt x="448" y="106"/>
                  </a:lnTo>
                  <a:lnTo>
                    <a:pt x="445" y="102"/>
                  </a:lnTo>
                  <a:lnTo>
                    <a:pt x="442" y="99"/>
                  </a:lnTo>
                  <a:lnTo>
                    <a:pt x="440" y="95"/>
                  </a:lnTo>
                  <a:lnTo>
                    <a:pt x="438" y="91"/>
                  </a:lnTo>
                  <a:lnTo>
                    <a:pt x="436" y="86"/>
                  </a:lnTo>
                  <a:lnTo>
                    <a:pt x="435" y="82"/>
                  </a:lnTo>
                  <a:lnTo>
                    <a:pt x="434" y="77"/>
                  </a:lnTo>
                  <a:lnTo>
                    <a:pt x="434" y="72"/>
                  </a:lnTo>
                  <a:lnTo>
                    <a:pt x="434" y="67"/>
                  </a:lnTo>
                  <a:lnTo>
                    <a:pt x="434" y="61"/>
                  </a:lnTo>
                  <a:lnTo>
                    <a:pt x="434" y="56"/>
                  </a:lnTo>
                  <a:lnTo>
                    <a:pt x="436" y="47"/>
                  </a:lnTo>
                  <a:lnTo>
                    <a:pt x="438" y="43"/>
                  </a:lnTo>
                  <a:lnTo>
                    <a:pt x="440" y="38"/>
                  </a:lnTo>
                  <a:lnTo>
                    <a:pt x="445" y="31"/>
                  </a:lnTo>
                  <a:lnTo>
                    <a:pt x="448" y="28"/>
                  </a:lnTo>
                  <a:lnTo>
                    <a:pt x="451" y="25"/>
                  </a:lnTo>
                  <a:lnTo>
                    <a:pt x="455" y="22"/>
                  </a:lnTo>
                  <a:lnTo>
                    <a:pt x="459" y="20"/>
                  </a:lnTo>
                  <a:lnTo>
                    <a:pt x="463" y="18"/>
                  </a:lnTo>
                  <a:lnTo>
                    <a:pt x="467" y="17"/>
                  </a:lnTo>
                  <a:lnTo>
                    <a:pt x="471" y="17"/>
                  </a:lnTo>
                  <a:lnTo>
                    <a:pt x="476" y="16"/>
                  </a:lnTo>
                  <a:lnTo>
                    <a:pt x="481" y="17"/>
                  </a:lnTo>
                  <a:lnTo>
                    <a:pt x="485" y="17"/>
                  </a:lnTo>
                  <a:lnTo>
                    <a:pt x="490" y="18"/>
                  </a:lnTo>
                  <a:lnTo>
                    <a:pt x="494" y="20"/>
                  </a:lnTo>
                  <a:lnTo>
                    <a:pt x="497" y="22"/>
                  </a:lnTo>
                  <a:lnTo>
                    <a:pt x="501" y="25"/>
                  </a:lnTo>
                  <a:lnTo>
                    <a:pt x="504" y="28"/>
                  </a:lnTo>
                  <a:lnTo>
                    <a:pt x="507" y="31"/>
                  </a:lnTo>
                  <a:lnTo>
                    <a:pt x="510" y="35"/>
                  </a:lnTo>
                  <a:lnTo>
                    <a:pt x="512" y="38"/>
                  </a:lnTo>
                  <a:lnTo>
                    <a:pt x="514" y="43"/>
                  </a:lnTo>
                  <a:lnTo>
                    <a:pt x="516" y="47"/>
                  </a:lnTo>
                  <a:lnTo>
                    <a:pt x="517" y="51"/>
                  </a:lnTo>
                  <a:lnTo>
                    <a:pt x="518" y="56"/>
                  </a:lnTo>
                  <a:lnTo>
                    <a:pt x="518" y="61"/>
                  </a:lnTo>
                  <a:lnTo>
                    <a:pt x="518" y="67"/>
                  </a:lnTo>
                  <a:close/>
                  <a:moveTo>
                    <a:pt x="666" y="131"/>
                  </a:moveTo>
                  <a:lnTo>
                    <a:pt x="666" y="2"/>
                  </a:lnTo>
                  <a:lnTo>
                    <a:pt x="647" y="2"/>
                  </a:lnTo>
                  <a:lnTo>
                    <a:pt x="647" y="105"/>
                  </a:lnTo>
                  <a:lnTo>
                    <a:pt x="646" y="105"/>
                  </a:lnTo>
                  <a:lnTo>
                    <a:pt x="591" y="2"/>
                  </a:lnTo>
                  <a:lnTo>
                    <a:pt x="566" y="2"/>
                  </a:lnTo>
                  <a:lnTo>
                    <a:pt x="566" y="131"/>
                  </a:lnTo>
                  <a:lnTo>
                    <a:pt x="585" y="131"/>
                  </a:lnTo>
                  <a:lnTo>
                    <a:pt x="585" y="28"/>
                  </a:lnTo>
                  <a:lnTo>
                    <a:pt x="586" y="28"/>
                  </a:lnTo>
                  <a:lnTo>
                    <a:pt x="642" y="131"/>
                  </a:lnTo>
                  <a:lnTo>
                    <a:pt x="666" y="131"/>
                  </a:lnTo>
                  <a:close/>
                  <a:moveTo>
                    <a:pt x="817" y="131"/>
                  </a:moveTo>
                  <a:lnTo>
                    <a:pt x="761" y="2"/>
                  </a:lnTo>
                  <a:lnTo>
                    <a:pt x="743" y="2"/>
                  </a:lnTo>
                  <a:lnTo>
                    <a:pt x="686" y="131"/>
                  </a:lnTo>
                  <a:lnTo>
                    <a:pt x="706" y="131"/>
                  </a:lnTo>
                  <a:lnTo>
                    <a:pt x="720" y="98"/>
                  </a:lnTo>
                  <a:lnTo>
                    <a:pt x="783" y="98"/>
                  </a:lnTo>
                  <a:lnTo>
                    <a:pt x="797" y="131"/>
                  </a:lnTo>
                  <a:lnTo>
                    <a:pt x="817" y="131"/>
                  </a:lnTo>
                  <a:close/>
                  <a:moveTo>
                    <a:pt x="778" y="83"/>
                  </a:moveTo>
                  <a:lnTo>
                    <a:pt x="726" y="83"/>
                  </a:lnTo>
                  <a:lnTo>
                    <a:pt x="752" y="20"/>
                  </a:lnTo>
                  <a:lnTo>
                    <a:pt x="778" y="83"/>
                  </a:lnTo>
                  <a:close/>
                  <a:moveTo>
                    <a:pt x="909" y="131"/>
                  </a:moveTo>
                  <a:lnTo>
                    <a:pt x="909" y="114"/>
                  </a:lnTo>
                  <a:lnTo>
                    <a:pt x="856" y="114"/>
                  </a:lnTo>
                  <a:lnTo>
                    <a:pt x="856" y="2"/>
                  </a:lnTo>
                  <a:lnTo>
                    <a:pt x="837" y="2"/>
                  </a:lnTo>
                  <a:lnTo>
                    <a:pt x="837" y="131"/>
                  </a:lnTo>
                  <a:lnTo>
                    <a:pt x="909" y="131"/>
                  </a:lnTo>
                  <a:close/>
                  <a:moveTo>
                    <a:pt x="1008" y="131"/>
                  </a:moveTo>
                  <a:lnTo>
                    <a:pt x="1008" y="2"/>
                  </a:lnTo>
                  <a:lnTo>
                    <a:pt x="990" y="2"/>
                  </a:lnTo>
                  <a:lnTo>
                    <a:pt x="990" y="131"/>
                  </a:lnTo>
                  <a:lnTo>
                    <a:pt x="1008" y="131"/>
                  </a:lnTo>
                  <a:close/>
                  <a:moveTo>
                    <a:pt x="1148" y="131"/>
                  </a:moveTo>
                  <a:lnTo>
                    <a:pt x="1148" y="2"/>
                  </a:lnTo>
                  <a:lnTo>
                    <a:pt x="1129" y="2"/>
                  </a:lnTo>
                  <a:lnTo>
                    <a:pt x="1129" y="105"/>
                  </a:lnTo>
                  <a:lnTo>
                    <a:pt x="1128" y="105"/>
                  </a:lnTo>
                  <a:lnTo>
                    <a:pt x="1072" y="2"/>
                  </a:lnTo>
                  <a:lnTo>
                    <a:pt x="1048" y="2"/>
                  </a:lnTo>
                  <a:lnTo>
                    <a:pt x="1048" y="131"/>
                  </a:lnTo>
                  <a:lnTo>
                    <a:pt x="1067" y="131"/>
                  </a:lnTo>
                  <a:lnTo>
                    <a:pt x="1067" y="28"/>
                  </a:lnTo>
                  <a:lnTo>
                    <a:pt x="1068" y="28"/>
                  </a:lnTo>
                  <a:lnTo>
                    <a:pt x="1124" y="131"/>
                  </a:lnTo>
                  <a:lnTo>
                    <a:pt x="1148" y="131"/>
                  </a:lnTo>
                  <a:close/>
                  <a:moveTo>
                    <a:pt x="1255" y="96"/>
                  </a:moveTo>
                  <a:lnTo>
                    <a:pt x="1254" y="92"/>
                  </a:lnTo>
                  <a:lnTo>
                    <a:pt x="1254" y="89"/>
                  </a:lnTo>
                  <a:lnTo>
                    <a:pt x="1254" y="87"/>
                  </a:lnTo>
                  <a:lnTo>
                    <a:pt x="1253" y="83"/>
                  </a:lnTo>
                  <a:lnTo>
                    <a:pt x="1251" y="79"/>
                  </a:lnTo>
                  <a:lnTo>
                    <a:pt x="1249" y="76"/>
                  </a:lnTo>
                  <a:lnTo>
                    <a:pt x="1247" y="72"/>
                  </a:lnTo>
                  <a:lnTo>
                    <a:pt x="1244" y="69"/>
                  </a:lnTo>
                  <a:lnTo>
                    <a:pt x="1240" y="66"/>
                  </a:lnTo>
                  <a:lnTo>
                    <a:pt x="1237" y="63"/>
                  </a:lnTo>
                  <a:lnTo>
                    <a:pt x="1231" y="60"/>
                  </a:lnTo>
                  <a:lnTo>
                    <a:pt x="1223" y="55"/>
                  </a:lnTo>
                  <a:lnTo>
                    <a:pt x="1214" y="50"/>
                  </a:lnTo>
                  <a:lnTo>
                    <a:pt x="1207" y="46"/>
                  </a:lnTo>
                  <a:lnTo>
                    <a:pt x="1205" y="44"/>
                  </a:lnTo>
                  <a:lnTo>
                    <a:pt x="1203" y="42"/>
                  </a:lnTo>
                  <a:lnTo>
                    <a:pt x="1200" y="38"/>
                  </a:lnTo>
                  <a:lnTo>
                    <a:pt x="1199" y="36"/>
                  </a:lnTo>
                  <a:lnTo>
                    <a:pt x="1199" y="35"/>
                  </a:lnTo>
                  <a:lnTo>
                    <a:pt x="1199" y="31"/>
                  </a:lnTo>
                  <a:lnTo>
                    <a:pt x="1201" y="28"/>
                  </a:lnTo>
                  <a:lnTo>
                    <a:pt x="1203" y="25"/>
                  </a:lnTo>
                  <a:lnTo>
                    <a:pt x="1205" y="22"/>
                  </a:lnTo>
                  <a:lnTo>
                    <a:pt x="1209" y="19"/>
                  </a:lnTo>
                  <a:lnTo>
                    <a:pt x="1212" y="17"/>
                  </a:lnTo>
                  <a:lnTo>
                    <a:pt x="1217" y="16"/>
                  </a:lnTo>
                  <a:lnTo>
                    <a:pt x="1221" y="16"/>
                  </a:lnTo>
                  <a:lnTo>
                    <a:pt x="1225" y="16"/>
                  </a:lnTo>
                  <a:lnTo>
                    <a:pt x="1231" y="18"/>
                  </a:lnTo>
                  <a:lnTo>
                    <a:pt x="1247" y="22"/>
                  </a:lnTo>
                  <a:lnTo>
                    <a:pt x="1250" y="4"/>
                  </a:lnTo>
                  <a:lnTo>
                    <a:pt x="1243" y="2"/>
                  </a:lnTo>
                  <a:lnTo>
                    <a:pt x="1235" y="1"/>
                  </a:lnTo>
                  <a:lnTo>
                    <a:pt x="1228" y="0"/>
                  </a:lnTo>
                  <a:lnTo>
                    <a:pt x="1221" y="0"/>
                  </a:lnTo>
                  <a:lnTo>
                    <a:pt x="1213" y="0"/>
                  </a:lnTo>
                  <a:lnTo>
                    <a:pt x="1210" y="1"/>
                  </a:lnTo>
                  <a:lnTo>
                    <a:pt x="1206" y="2"/>
                  </a:lnTo>
                  <a:lnTo>
                    <a:pt x="1203" y="3"/>
                  </a:lnTo>
                  <a:lnTo>
                    <a:pt x="1199" y="4"/>
                  </a:lnTo>
                  <a:lnTo>
                    <a:pt x="1196" y="6"/>
                  </a:lnTo>
                  <a:lnTo>
                    <a:pt x="1193" y="8"/>
                  </a:lnTo>
                  <a:lnTo>
                    <a:pt x="1190" y="11"/>
                  </a:lnTo>
                  <a:lnTo>
                    <a:pt x="1187" y="13"/>
                  </a:lnTo>
                  <a:lnTo>
                    <a:pt x="1185" y="16"/>
                  </a:lnTo>
                  <a:lnTo>
                    <a:pt x="1183" y="20"/>
                  </a:lnTo>
                  <a:lnTo>
                    <a:pt x="1182" y="23"/>
                  </a:lnTo>
                  <a:lnTo>
                    <a:pt x="1181" y="27"/>
                  </a:lnTo>
                  <a:lnTo>
                    <a:pt x="1180" y="30"/>
                  </a:lnTo>
                  <a:lnTo>
                    <a:pt x="1180" y="35"/>
                  </a:lnTo>
                  <a:lnTo>
                    <a:pt x="1180" y="39"/>
                  </a:lnTo>
                  <a:lnTo>
                    <a:pt x="1181" y="43"/>
                  </a:lnTo>
                  <a:lnTo>
                    <a:pt x="1183" y="48"/>
                  </a:lnTo>
                  <a:lnTo>
                    <a:pt x="1186" y="52"/>
                  </a:lnTo>
                  <a:lnTo>
                    <a:pt x="1189" y="56"/>
                  </a:lnTo>
                  <a:lnTo>
                    <a:pt x="1193" y="59"/>
                  </a:lnTo>
                  <a:lnTo>
                    <a:pt x="1198" y="63"/>
                  </a:lnTo>
                  <a:lnTo>
                    <a:pt x="1204" y="66"/>
                  </a:lnTo>
                  <a:lnTo>
                    <a:pt x="1218" y="73"/>
                  </a:lnTo>
                  <a:lnTo>
                    <a:pt x="1225" y="78"/>
                  </a:lnTo>
                  <a:lnTo>
                    <a:pt x="1228" y="80"/>
                  </a:lnTo>
                  <a:lnTo>
                    <a:pt x="1230" y="82"/>
                  </a:lnTo>
                  <a:lnTo>
                    <a:pt x="1232" y="86"/>
                  </a:lnTo>
                  <a:lnTo>
                    <a:pt x="1234" y="89"/>
                  </a:lnTo>
                  <a:lnTo>
                    <a:pt x="1235" y="92"/>
                  </a:lnTo>
                  <a:lnTo>
                    <a:pt x="1235" y="96"/>
                  </a:lnTo>
                  <a:lnTo>
                    <a:pt x="1235" y="100"/>
                  </a:lnTo>
                  <a:lnTo>
                    <a:pt x="1234" y="104"/>
                  </a:lnTo>
                  <a:lnTo>
                    <a:pt x="1231" y="108"/>
                  </a:lnTo>
                  <a:lnTo>
                    <a:pt x="1230" y="109"/>
                  </a:lnTo>
                  <a:lnTo>
                    <a:pt x="1228" y="111"/>
                  </a:lnTo>
                  <a:lnTo>
                    <a:pt x="1224" y="113"/>
                  </a:lnTo>
                  <a:lnTo>
                    <a:pt x="1219" y="115"/>
                  </a:lnTo>
                  <a:lnTo>
                    <a:pt x="1214" y="116"/>
                  </a:lnTo>
                  <a:lnTo>
                    <a:pt x="1208" y="117"/>
                  </a:lnTo>
                  <a:lnTo>
                    <a:pt x="1201" y="116"/>
                  </a:lnTo>
                  <a:lnTo>
                    <a:pt x="1195" y="115"/>
                  </a:lnTo>
                  <a:lnTo>
                    <a:pt x="1189" y="113"/>
                  </a:lnTo>
                  <a:lnTo>
                    <a:pt x="1184" y="110"/>
                  </a:lnTo>
                  <a:lnTo>
                    <a:pt x="1181" y="128"/>
                  </a:lnTo>
                  <a:lnTo>
                    <a:pt x="1190" y="131"/>
                  </a:lnTo>
                  <a:lnTo>
                    <a:pt x="1195" y="132"/>
                  </a:lnTo>
                  <a:lnTo>
                    <a:pt x="1200" y="133"/>
                  </a:lnTo>
                  <a:lnTo>
                    <a:pt x="1208" y="133"/>
                  </a:lnTo>
                  <a:lnTo>
                    <a:pt x="1217" y="133"/>
                  </a:lnTo>
                  <a:lnTo>
                    <a:pt x="1225" y="131"/>
                  </a:lnTo>
                  <a:lnTo>
                    <a:pt x="1232" y="129"/>
                  </a:lnTo>
                  <a:lnTo>
                    <a:pt x="1239" y="125"/>
                  </a:lnTo>
                  <a:lnTo>
                    <a:pt x="1243" y="122"/>
                  </a:lnTo>
                  <a:lnTo>
                    <a:pt x="1246" y="119"/>
                  </a:lnTo>
                  <a:lnTo>
                    <a:pt x="1249" y="116"/>
                  </a:lnTo>
                  <a:lnTo>
                    <a:pt x="1251" y="113"/>
                  </a:lnTo>
                  <a:lnTo>
                    <a:pt x="1252" y="109"/>
                  </a:lnTo>
                  <a:lnTo>
                    <a:pt x="1254" y="105"/>
                  </a:lnTo>
                  <a:lnTo>
                    <a:pt x="1254" y="101"/>
                  </a:lnTo>
                  <a:lnTo>
                    <a:pt x="1255" y="96"/>
                  </a:lnTo>
                  <a:close/>
                  <a:moveTo>
                    <a:pt x="1370" y="18"/>
                  </a:moveTo>
                  <a:lnTo>
                    <a:pt x="1370" y="2"/>
                  </a:lnTo>
                  <a:lnTo>
                    <a:pt x="1273" y="2"/>
                  </a:lnTo>
                  <a:lnTo>
                    <a:pt x="1273" y="18"/>
                  </a:lnTo>
                  <a:lnTo>
                    <a:pt x="1312" y="18"/>
                  </a:lnTo>
                  <a:lnTo>
                    <a:pt x="1312" y="131"/>
                  </a:lnTo>
                  <a:lnTo>
                    <a:pt x="1331" y="131"/>
                  </a:lnTo>
                  <a:lnTo>
                    <a:pt x="1331" y="18"/>
                  </a:lnTo>
                  <a:lnTo>
                    <a:pt x="1370" y="18"/>
                  </a:lnTo>
                  <a:close/>
                  <a:moveTo>
                    <a:pt x="1414" y="131"/>
                  </a:moveTo>
                  <a:lnTo>
                    <a:pt x="1414" y="2"/>
                  </a:lnTo>
                  <a:lnTo>
                    <a:pt x="1395" y="2"/>
                  </a:lnTo>
                  <a:lnTo>
                    <a:pt x="1395" y="131"/>
                  </a:lnTo>
                  <a:lnTo>
                    <a:pt x="1414" y="131"/>
                  </a:lnTo>
                  <a:close/>
                  <a:moveTo>
                    <a:pt x="1537" y="18"/>
                  </a:moveTo>
                  <a:lnTo>
                    <a:pt x="1537" y="2"/>
                  </a:lnTo>
                  <a:lnTo>
                    <a:pt x="1440" y="2"/>
                  </a:lnTo>
                  <a:lnTo>
                    <a:pt x="1440" y="18"/>
                  </a:lnTo>
                  <a:lnTo>
                    <a:pt x="1479" y="18"/>
                  </a:lnTo>
                  <a:lnTo>
                    <a:pt x="1479" y="131"/>
                  </a:lnTo>
                  <a:lnTo>
                    <a:pt x="1498" y="131"/>
                  </a:lnTo>
                  <a:lnTo>
                    <a:pt x="1498" y="18"/>
                  </a:lnTo>
                  <a:lnTo>
                    <a:pt x="1537" y="18"/>
                  </a:lnTo>
                  <a:close/>
                  <a:moveTo>
                    <a:pt x="1663" y="77"/>
                  </a:moveTo>
                  <a:lnTo>
                    <a:pt x="1663" y="2"/>
                  </a:lnTo>
                  <a:lnTo>
                    <a:pt x="1644" y="2"/>
                  </a:lnTo>
                  <a:lnTo>
                    <a:pt x="1644" y="81"/>
                  </a:lnTo>
                  <a:lnTo>
                    <a:pt x="1643" y="88"/>
                  </a:lnTo>
                  <a:lnTo>
                    <a:pt x="1643" y="92"/>
                  </a:lnTo>
                  <a:lnTo>
                    <a:pt x="1642" y="95"/>
                  </a:lnTo>
                  <a:lnTo>
                    <a:pt x="1641" y="98"/>
                  </a:lnTo>
                  <a:lnTo>
                    <a:pt x="1639" y="101"/>
                  </a:lnTo>
                  <a:lnTo>
                    <a:pt x="1636" y="106"/>
                  </a:lnTo>
                  <a:lnTo>
                    <a:pt x="1634" y="109"/>
                  </a:lnTo>
                  <a:lnTo>
                    <a:pt x="1632" y="111"/>
                  </a:lnTo>
                  <a:lnTo>
                    <a:pt x="1626" y="114"/>
                  </a:lnTo>
                  <a:lnTo>
                    <a:pt x="1620" y="116"/>
                  </a:lnTo>
                  <a:lnTo>
                    <a:pt x="1613" y="117"/>
                  </a:lnTo>
                  <a:lnTo>
                    <a:pt x="1606" y="116"/>
                  </a:lnTo>
                  <a:lnTo>
                    <a:pt x="1602" y="115"/>
                  </a:lnTo>
                  <a:lnTo>
                    <a:pt x="1599" y="114"/>
                  </a:lnTo>
                  <a:lnTo>
                    <a:pt x="1596" y="113"/>
                  </a:lnTo>
                  <a:lnTo>
                    <a:pt x="1594" y="111"/>
                  </a:lnTo>
                  <a:lnTo>
                    <a:pt x="1591" y="109"/>
                  </a:lnTo>
                  <a:lnTo>
                    <a:pt x="1589" y="106"/>
                  </a:lnTo>
                  <a:lnTo>
                    <a:pt x="1586" y="101"/>
                  </a:lnTo>
                  <a:lnTo>
                    <a:pt x="1583" y="95"/>
                  </a:lnTo>
                  <a:lnTo>
                    <a:pt x="1582" y="88"/>
                  </a:lnTo>
                  <a:lnTo>
                    <a:pt x="1582" y="81"/>
                  </a:lnTo>
                  <a:lnTo>
                    <a:pt x="1582" y="2"/>
                  </a:lnTo>
                  <a:lnTo>
                    <a:pt x="1563" y="2"/>
                  </a:lnTo>
                  <a:lnTo>
                    <a:pt x="1563" y="77"/>
                  </a:lnTo>
                  <a:lnTo>
                    <a:pt x="1563" y="83"/>
                  </a:lnTo>
                  <a:lnTo>
                    <a:pt x="1564" y="89"/>
                  </a:lnTo>
                  <a:lnTo>
                    <a:pt x="1566" y="99"/>
                  </a:lnTo>
                  <a:lnTo>
                    <a:pt x="1567" y="104"/>
                  </a:lnTo>
                  <a:lnTo>
                    <a:pt x="1569" y="108"/>
                  </a:lnTo>
                  <a:lnTo>
                    <a:pt x="1571" y="112"/>
                  </a:lnTo>
                  <a:lnTo>
                    <a:pt x="1574" y="116"/>
                  </a:lnTo>
                  <a:lnTo>
                    <a:pt x="1577" y="120"/>
                  </a:lnTo>
                  <a:lnTo>
                    <a:pt x="1581" y="123"/>
                  </a:lnTo>
                  <a:lnTo>
                    <a:pt x="1585" y="126"/>
                  </a:lnTo>
                  <a:lnTo>
                    <a:pt x="1590" y="129"/>
                  </a:lnTo>
                  <a:lnTo>
                    <a:pt x="1595" y="131"/>
                  </a:lnTo>
                  <a:lnTo>
                    <a:pt x="1601" y="132"/>
                  </a:lnTo>
                  <a:lnTo>
                    <a:pt x="1606" y="133"/>
                  </a:lnTo>
                  <a:lnTo>
                    <a:pt x="1613" y="133"/>
                  </a:lnTo>
                  <a:lnTo>
                    <a:pt x="1619" y="133"/>
                  </a:lnTo>
                  <a:lnTo>
                    <a:pt x="1625" y="132"/>
                  </a:lnTo>
                  <a:lnTo>
                    <a:pt x="1630" y="131"/>
                  </a:lnTo>
                  <a:lnTo>
                    <a:pt x="1635" y="129"/>
                  </a:lnTo>
                  <a:lnTo>
                    <a:pt x="1640" y="126"/>
                  </a:lnTo>
                  <a:lnTo>
                    <a:pt x="1644" y="123"/>
                  </a:lnTo>
                  <a:lnTo>
                    <a:pt x="1648" y="120"/>
                  </a:lnTo>
                  <a:lnTo>
                    <a:pt x="1652" y="116"/>
                  </a:lnTo>
                  <a:lnTo>
                    <a:pt x="1654" y="112"/>
                  </a:lnTo>
                  <a:lnTo>
                    <a:pt x="1656" y="108"/>
                  </a:lnTo>
                  <a:lnTo>
                    <a:pt x="1658" y="104"/>
                  </a:lnTo>
                  <a:lnTo>
                    <a:pt x="1660" y="99"/>
                  </a:lnTo>
                  <a:lnTo>
                    <a:pt x="1661" y="94"/>
                  </a:lnTo>
                  <a:lnTo>
                    <a:pt x="1662" y="89"/>
                  </a:lnTo>
                  <a:lnTo>
                    <a:pt x="1662" y="83"/>
                  </a:lnTo>
                  <a:lnTo>
                    <a:pt x="1663" y="77"/>
                  </a:lnTo>
                  <a:close/>
                  <a:moveTo>
                    <a:pt x="1786" y="18"/>
                  </a:moveTo>
                  <a:lnTo>
                    <a:pt x="1786" y="2"/>
                  </a:lnTo>
                  <a:lnTo>
                    <a:pt x="1689" y="2"/>
                  </a:lnTo>
                  <a:lnTo>
                    <a:pt x="1689" y="18"/>
                  </a:lnTo>
                  <a:lnTo>
                    <a:pt x="1728" y="18"/>
                  </a:lnTo>
                  <a:lnTo>
                    <a:pt x="1728" y="131"/>
                  </a:lnTo>
                  <a:lnTo>
                    <a:pt x="1747" y="131"/>
                  </a:lnTo>
                  <a:lnTo>
                    <a:pt x="1747" y="18"/>
                  </a:lnTo>
                  <a:lnTo>
                    <a:pt x="1786" y="18"/>
                  </a:lnTo>
                  <a:close/>
                  <a:moveTo>
                    <a:pt x="1885" y="18"/>
                  </a:moveTo>
                  <a:lnTo>
                    <a:pt x="1885" y="2"/>
                  </a:lnTo>
                  <a:lnTo>
                    <a:pt x="1813" y="2"/>
                  </a:lnTo>
                  <a:lnTo>
                    <a:pt x="1813" y="131"/>
                  </a:lnTo>
                  <a:lnTo>
                    <a:pt x="1885" y="131"/>
                  </a:lnTo>
                  <a:lnTo>
                    <a:pt x="1885" y="114"/>
                  </a:lnTo>
                  <a:lnTo>
                    <a:pt x="1831" y="114"/>
                  </a:lnTo>
                  <a:lnTo>
                    <a:pt x="1831" y="72"/>
                  </a:lnTo>
                  <a:lnTo>
                    <a:pt x="1880" y="72"/>
                  </a:lnTo>
                  <a:lnTo>
                    <a:pt x="1880" y="56"/>
                  </a:lnTo>
                  <a:lnTo>
                    <a:pt x="1831" y="56"/>
                  </a:lnTo>
                  <a:lnTo>
                    <a:pt x="1831" y="18"/>
                  </a:lnTo>
                  <a:lnTo>
                    <a:pt x="1885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6B55-FAC7-43F2-B54C-B55670000097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081E-B777-49EE-859B-E6AA7FF496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144" name="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3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4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CA1F-064B-426D-8D38-4573AE302E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189" name="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pasnet.org/" TargetMode="Externa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MTO/YMAL: Arviointi ja malli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uni Tuomi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rviointi- ja mallitusyksikkö YMAL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tutkimusprofess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erikoistutkija (vv. akatemiatutkija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väitellyttä tutkija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väitöskirjantekijä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5 atk-suunnittelija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suunnittelija/sihteeri (äitiyslomal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utkimusaih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istustutkimus (erit. ilmansaaste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viointimenetelmä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tyisesti avoin arvio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säilma-altistum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enhiukkasten terveysvaikutuk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un pienpolton ja liikenteen terveysvaikutuk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lmastopolitiikkojen terveysvaikutuk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ehityskohteita ja –tarp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: työtila tieteen ja politiikan rajapinnas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hteistyö muiden arviointia tekevien yksiköiden kanssa THL:ssä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Finohta: terveysteknologioiden arvio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äestön elinolot, terveys ja hyvinvointi –yksikkö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IVA: ihmisiin kohdistuvien vaikutusten arvioi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YVA: ympäristövaikutusten arvioi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aste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Eri perinteet, työ hajallaan organisaatiossa (TA1,3&amp;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YMALin työ kokonaan projektiraha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Ristiinan lämpölaito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-523800"/>
            <a:ext cx="10117080" cy="73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HL strategi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1266840" y="-657360"/>
            <a:ext cx="10410840" cy="751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 Narrow"/>
              </a:rPr>
              <a:t>Ilmastopolitiikka vaikutta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ikenteeseen, liikenteen päästöihin ja hyöty- ja harrastusliikunta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ämmön ja sähköntuotannon kustannuksiin ja päästöih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upungin ilman laatuu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akennusten varusteluun, väljyyteen, asumisen kustannuksiin ja sisäilman laatuu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siaaliseen ja esteettiseen ympäristöön, sek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dellämainittujen tekijöiden kautta terveyteen ja toimintakykyy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ikki nämä vaikutukset voivat olla valituista KhK vähentämiseksi valituista energia-, asunto-, liikenne- ja yhdyskuntapolitiikoista riippuen hyödyllisiä tai haitalli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24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705200" y="3789360"/>
            <a:ext cx="4319640" cy="295272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81120" y="4797360"/>
            <a:ext cx="1130400" cy="2872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llmasto- ja terveysvaikutusten nelikentt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5920" y="119160"/>
            <a:ext cx="4456080" cy="34858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5920" y="3719520"/>
            <a:ext cx="4500360" cy="3022560"/>
          </a:xfrm>
          <a:prstGeom prst="rect">
            <a:avLst/>
          </a:prstGeom>
          <a:solidFill>
            <a:srgbClr val="fee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115920"/>
            <a:ext cx="4452840" cy="367344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29520" y="404640"/>
            <a:ext cx="153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e7f6ff"/>
                </a:solidFill>
                <a:latin typeface="Arial"/>
              </a:rPr>
              <a:t>WIN W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2360" y="4941720"/>
            <a:ext cx="307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ed5d2"/>
                </a:solidFill>
                <a:latin typeface="Arial"/>
              </a:rPr>
              <a:t>LOSE 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19160" y="3251160"/>
            <a:ext cx="8905680" cy="1047960"/>
            <a:chOff x="119160" y="3251160"/>
            <a:chExt cx="8905680" cy="1047960"/>
          </a:xfrm>
        </p:grpSpPr>
        <p:sp>
          <p:nvSpPr>
            <p:cNvPr id="253" name=""/>
            <p:cNvSpPr/>
            <p:nvPr/>
          </p:nvSpPr>
          <p:spPr>
            <a:xfrm>
              <a:off x="119160" y="3251160"/>
              <a:ext cx="8905680" cy="1047960"/>
            </a:xfrm>
            <a:prstGeom prst="rightArrow">
              <a:avLst>
                <a:gd name="adj1" fmla="val 50000"/>
                <a:gd name="adj2" fmla="val 212453"/>
              </a:avLst>
            </a:prstGeom>
            <a:solidFill>
              <a:srgbClr val="7bc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6760" y="3573360"/>
              <a:ext cx="705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           </a:t>
              </a: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+         Vaikutus  kasvihuone          kaasupäästöihin     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6831000" y="1052640"/>
            <a:ext cx="1341360" cy="45900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0000"/>
                </a:solidFill>
                <a:latin typeface="Arial Narrow"/>
              </a:rPr>
              <a:t>Perheiden tukem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314360" y="2349360"/>
            <a:ext cx="5451120" cy="2330640"/>
            <a:chOff x="1314360" y="2349360"/>
            <a:chExt cx="5451120" cy="2330640"/>
          </a:xfrm>
        </p:grpSpPr>
        <p:sp>
          <p:nvSpPr>
            <p:cNvPr id="257" name=""/>
            <p:cNvSpPr/>
            <p:nvPr/>
          </p:nvSpPr>
          <p:spPr>
            <a:xfrm>
              <a:off x="1314360" y="2349360"/>
              <a:ext cx="86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Haja-asu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35240" y="4076640"/>
              <a:ext cx="9302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35240" y="3213000"/>
              <a:ext cx="930240" cy="45900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Tiivis yhdys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45480" y="2349360"/>
              <a:ext cx="1595520" cy="45900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Väljä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80760" y="4221000"/>
              <a:ext cx="1793880" cy="45900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Eriytetty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014720" y="115920"/>
            <a:ext cx="1074960" cy="6626160"/>
            <a:chOff x="4014720" y="115920"/>
            <a:chExt cx="1074960" cy="6626160"/>
          </a:xfrm>
        </p:grpSpPr>
        <p:sp>
          <p:nvSpPr>
            <p:cNvPr id="263" name=""/>
            <p:cNvSpPr/>
            <p:nvPr/>
          </p:nvSpPr>
          <p:spPr>
            <a:xfrm>
              <a:off x="4014720" y="115920"/>
              <a:ext cx="1074960" cy="6626160"/>
            </a:xfrm>
            <a:prstGeom prst="upArrow">
              <a:avLst>
                <a:gd name="adj1" fmla="val 50000"/>
                <a:gd name="adj2" fmla="val 154102"/>
              </a:avLst>
            </a:prstGeom>
            <a:solidFill>
              <a:srgbClr val="fd93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200000">
              <a:off x="2071440" y="3713760"/>
              <a:ext cx="4970160" cy="368280"/>
            </a:xfrm>
            <a:prstGeom prst="rect">
              <a:avLst/>
            </a:prstGeom>
            <a:solidFill>
              <a:srgbClr val="fd9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333399"/>
                  </a:solidFill>
                  <a:latin typeface="Arial"/>
                </a:rPr>
                <a:t>-   Vaikutus  terveyteen  ja  hyvinvointiin  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581120" y="466560"/>
            <a:ext cx="7346520" cy="5308200"/>
            <a:chOff x="1581120" y="466560"/>
            <a:chExt cx="7346520" cy="5308200"/>
          </a:xfrm>
        </p:grpSpPr>
        <p:sp>
          <p:nvSpPr>
            <p:cNvPr id="266" name=""/>
            <p:cNvSpPr/>
            <p:nvPr/>
          </p:nvSpPr>
          <p:spPr>
            <a:xfrm>
              <a:off x="1581120" y="1989000"/>
              <a:ext cx="131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Henkilö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69600" y="2565360"/>
              <a:ext cx="93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Raide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53560" y="466560"/>
              <a:ext cx="177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c479d"/>
                  </a:solidFill>
                  <a:latin typeface="Arial Narrow"/>
                </a:rPr>
                <a:t>Hyöty</a:t>
              </a: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u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36000" y="1268280"/>
              <a:ext cx="177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evyen liikenteen tieverk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40480" y="4076640"/>
              <a:ext cx="531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Bus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43440" y="4941720"/>
              <a:ext cx="13302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uorma-auto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79640" y="5516640"/>
              <a:ext cx="1330200" cy="258120"/>
            </a:xfrm>
            <a:prstGeom prst="rect">
              <a:avLst/>
            </a:prstGeom>
            <a:solidFill>
              <a:srgbClr val="fe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Paketti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71080" y="4076640"/>
              <a:ext cx="6649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49240" y="189000"/>
            <a:ext cx="7776720" cy="6324840"/>
            <a:chOff x="849240" y="189000"/>
            <a:chExt cx="7776720" cy="6324840"/>
          </a:xfrm>
        </p:grpSpPr>
        <p:sp>
          <p:nvSpPr>
            <p:cNvPr id="275" name=""/>
            <p:cNvSpPr/>
            <p:nvPr/>
          </p:nvSpPr>
          <p:spPr>
            <a:xfrm>
              <a:off x="5900400" y="2276640"/>
              <a:ext cx="1062360" cy="45900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Lämmönerist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35120" y="1628640"/>
              <a:ext cx="165708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Moderni IV-tekniik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9240" y="189000"/>
              <a:ext cx="3480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Urheiluhallit, ostos-, viihde-, kulttuuri- ja koulutuslaitokset (urheilukeskukset, vapaa-ajan asunno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4240" y="5661000"/>
              <a:ext cx="1594080" cy="276480"/>
            </a:xfrm>
            <a:prstGeom prst="rect">
              <a:avLst/>
            </a:prstGeom>
            <a:solidFill>
              <a:srgbClr val="f4ddff"/>
            </a:solidFill>
            <a:ln w="9360">
              <a:solidFill>
                <a:srgbClr val="ffd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Alhaisempi ilmanvaih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29880" y="6237360"/>
              <a:ext cx="139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Pienemmät asunn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99840" y="5113440"/>
              <a:ext cx="1528200" cy="45900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Huonelämpötila &lt; 20 </a:t>
              </a:r>
              <a:r>
                <a:rPr b="1" lang="en-US" sz="1200" spc="-1" strike="noStrike">
                  <a:solidFill>
                    <a:srgbClr val="993300"/>
                  </a:solidFill>
                  <a:latin typeface="Arial Narrow"/>
                  <a:ea typeface="Arial"/>
                </a:rPr>
                <a:t>º</a:t>
              </a: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3800" y="1046160"/>
              <a:ext cx="157068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Suuremmat </a:t>
              </a:r>
              <a:r>
                <a:rPr b="1" lang="fi-FI" sz="1200" spc="-1" strike="noStrike">
                  <a:solidFill>
                    <a:srgbClr val="ff0000"/>
                  </a:solidFill>
                  <a:latin typeface="Arial Narrow"/>
                </a:rPr>
                <a:t>asunn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08040" y="2924280"/>
              <a:ext cx="93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 Narrow"/>
                </a:rPr>
                <a:t>Pikkulapsille </a:t>
              </a:r>
              <a:r>
                <a:rPr b="1" lang="en-GB" sz="1200" spc="-1" strike="noStrike">
                  <a:solidFill>
                    <a:srgbClr val="993300"/>
                  </a:solidFill>
                  <a:latin typeface="Arial Narrow"/>
                </a:rPr>
                <a:t>päiväko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52360" y="2637000"/>
            <a:ext cx="8440560" cy="3876840"/>
            <a:chOff x="252360" y="2637000"/>
            <a:chExt cx="8440560" cy="3876840"/>
          </a:xfrm>
        </p:grpSpPr>
        <p:sp>
          <p:nvSpPr>
            <p:cNvPr id="284" name=""/>
            <p:cNvSpPr/>
            <p:nvPr/>
          </p:nvSpPr>
          <p:spPr>
            <a:xfrm>
              <a:off x="4837680" y="4437000"/>
              <a:ext cx="126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etsähak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37680" y="2924280"/>
              <a:ext cx="159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Lämpöpum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81480" y="6021360"/>
              <a:ext cx="174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Puun pienpolt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96800" y="306864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"/>
                </a:rPr>
                <a:t>Ydinenerg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33560" y="2637000"/>
              <a:ext cx="1197000" cy="64152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Sähkön ja lämmön yhteistuota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14680" y="501336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Öljy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2360" y="5805360"/>
              <a:ext cx="99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Turv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1440" y="6237360"/>
              <a:ext cx="86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Hiili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76480" y="4581360"/>
              <a:ext cx="126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aakaasu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511360" y="620640"/>
            <a:ext cx="2658600" cy="675000"/>
            <a:chOff x="2511360" y="620640"/>
            <a:chExt cx="2658600" cy="675000"/>
          </a:xfrm>
        </p:grpSpPr>
        <p:sp>
          <p:nvSpPr>
            <p:cNvPr id="294" name=""/>
            <p:cNvSpPr/>
            <p:nvPr/>
          </p:nvSpPr>
          <p:spPr>
            <a:xfrm>
              <a:off x="3974040" y="836640"/>
              <a:ext cx="1195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c1df63"/>
                  </a:solidFill>
                  <a:latin typeface="Arial Narrow"/>
                </a:rPr>
                <a:t>Liik                  un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11360" y="620640"/>
              <a:ext cx="172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c1df63"/>
                  </a:solidFill>
                  <a:latin typeface="Arial Narrow"/>
                </a:rPr>
                <a:t>Halli / urheilukeskusliikunt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84320" y="1341360"/>
            <a:ext cx="3590640" cy="642600"/>
          </a:xfrm>
          <a:prstGeom prst="rect">
            <a:avLst/>
          </a:prstGeom>
          <a:solidFill>
            <a:srgbClr val="f7f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Erilaiset politiikat ja vaihtoehdot voidaan sijoitella tähän nelikenttää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Mikä on Opasnet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pasnet: kuka tahansa voi ratkoa yhteisiä ongelm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ältää tieteellistä tiet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hdollista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jäsentyne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eskustelun aihe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vioi suunniteltuja ja toteutettuja politiikko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astoi yksityiskohtaista dataa arviointien pohjak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ikki sisältö on kriittisen tarkastelun ala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uka tahansa saa osallistua kaikkeen sisällön tuottamis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www.opasnet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ämäkin esitys löytyy Opasnetistä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fi.opasnet.org/fi/Kuva:Riskinarviointi_ja_riskinhallinta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43:21Z</dcterms:created>
  <dc:creator>Jouni Tuomisto</dc:creator>
  <dc:description/>
  <dc:language>en-US</dc:language>
  <cp:lastModifiedBy>Jouni Tuomisto</cp:lastModifiedBy>
  <dcterms:modified xsi:type="dcterms:W3CDTF">2009-10-08T05:51:00Z</dcterms:modified>
  <cp:revision>3</cp:revision>
  <dc:subject/>
  <dc:title>Slide 1</dc:title>
</cp:coreProperties>
</file>